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A73-DC8D-4CE6-A03F-BBFF4C67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6DF-4BA6-45EC-8D57-CEB51094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F97-A642-43B1-B1CC-98B4C6DA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9F8-350D-4B88-A857-7AB6C123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A16-D2F9-4645-8C4C-75293742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9E6-A868-428D-A45E-060DFE42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B79-EA7C-4971-B518-5CADBD45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491-BA9D-4795-AF61-7ADE0BFF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D63-E70D-4E84-A603-97CAF1BD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628-02CF-453B-ABAC-CAD9EE19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788-6D62-49E6-9456-59BE9D90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1B6-7384-463B-9634-30E71D0C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F3D1-0CFA-4440-B154-0B9F05A8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391440" cy="4667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OGRAPHY of 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43400" y="609480"/>
            <a:ext cx="4581360" cy="5248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85800"/>
            <a:ext cx="41148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me was a city-state in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Rome’s climate is a Mediterranean climate with summers being hot and dry and winters being wet and m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534280" cy="5248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3600" y="76212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208480"/>
            <a:ext cx="84582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known as Latins, spoke Latin, were herders and farmers, harvested wheat, grapes, and o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609480"/>
            <a:ext cx="4343400" cy="5248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190512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 Etruscan city-states were to the north of Rome and south of Rome were Greek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6160" y="3178080"/>
            <a:ext cx="2214720" cy="2581200"/>
          </a:xfrm>
          <a:custGeom>
            <a:avLst/>
            <a:gdLst/>
            <a:ahLst/>
            <a:rect l="l" t="t" r="r" b="b"/>
            <a:pathLst>
              <a:path w="6153" h="7170">
                <a:moveTo>
                  <a:pt x="19273" y="15156"/>
                </a:moveTo>
                <a:cubicBezTo>
                  <a:pt x="19343" y="15160"/>
                  <a:pt x="19407" y="15173"/>
                  <a:pt x="19472" y="15180"/>
                </a:cubicBezTo>
                <a:cubicBezTo>
                  <a:pt x="19550" y="15188"/>
                  <a:pt x="19653" y="15161"/>
                  <a:pt x="19695" y="15156"/>
                </a:cubicBezTo>
                <a:cubicBezTo>
                  <a:pt x="19960" y="15124"/>
                  <a:pt x="20268" y="15210"/>
                  <a:pt x="20513" y="15131"/>
                </a:cubicBezTo>
                <a:cubicBezTo>
                  <a:pt x="20584" y="15108"/>
                  <a:pt x="20523" y="15123"/>
                  <a:pt x="20563" y="15081"/>
                </a:cubicBezTo>
                <a:cubicBezTo>
                  <a:pt x="20587" y="15056"/>
                  <a:pt x="20648" y="15009"/>
                  <a:pt x="20687" y="14982"/>
                </a:cubicBezTo>
                <a:cubicBezTo>
                  <a:pt x="20754" y="14936"/>
                  <a:pt x="20837" y="14870"/>
                  <a:pt x="20910" y="14833"/>
                </a:cubicBezTo>
                <a:cubicBezTo>
                  <a:pt x="20943" y="14817"/>
                  <a:pt x="20988" y="14838"/>
                  <a:pt x="21010" y="14808"/>
                </a:cubicBezTo>
                <a:cubicBezTo>
                  <a:pt x="21017" y="14798"/>
                  <a:pt x="21033" y="14645"/>
                  <a:pt x="21034" y="14635"/>
                </a:cubicBezTo>
                <a:cubicBezTo>
                  <a:pt x="21041" y="14565"/>
                  <a:pt x="21034" y="14521"/>
                  <a:pt x="21059" y="14461"/>
                </a:cubicBezTo>
                <a:cubicBezTo>
                  <a:pt x="21080" y="14411"/>
                  <a:pt x="21112" y="14355"/>
                  <a:pt x="21134" y="14312"/>
                </a:cubicBezTo>
                <a:cubicBezTo>
                  <a:pt x="21150" y="14280"/>
                  <a:pt x="21143" y="14280"/>
                  <a:pt x="21158" y="14238"/>
                </a:cubicBezTo>
                <a:cubicBezTo>
                  <a:pt x="21176" y="14190"/>
                  <a:pt x="21175" y="14185"/>
                  <a:pt x="21208" y="14139"/>
                </a:cubicBezTo>
                <a:cubicBezTo>
                  <a:pt x="21232" y="14106"/>
                  <a:pt x="21258" y="14037"/>
                  <a:pt x="21282" y="14015"/>
                </a:cubicBezTo>
                <a:cubicBezTo>
                  <a:pt x="21297" y="14001"/>
                  <a:pt x="21318" y="13976"/>
                  <a:pt x="21332" y="13965"/>
                </a:cubicBezTo>
                <a:cubicBezTo>
                  <a:pt x="21340" y="13965"/>
                  <a:pt x="21349" y="13965"/>
                  <a:pt x="21357" y="13965"/>
                </a:cubicBezTo>
                <a:cubicBezTo>
                  <a:pt x="21369" y="13992"/>
                  <a:pt x="21396" y="14000"/>
                  <a:pt x="21406" y="14039"/>
                </a:cubicBezTo>
                <a:cubicBezTo>
                  <a:pt x="21440" y="14165"/>
                  <a:pt x="21382" y="14313"/>
                  <a:pt x="21357" y="14412"/>
                </a:cubicBezTo>
                <a:cubicBezTo>
                  <a:pt x="21344" y="14463"/>
                  <a:pt x="21352" y="14491"/>
                  <a:pt x="21332" y="14536"/>
                </a:cubicBezTo>
                <a:cubicBezTo>
                  <a:pt x="21319" y="14565"/>
                  <a:pt x="21310" y="14569"/>
                  <a:pt x="21307" y="14635"/>
                </a:cubicBezTo>
                <a:cubicBezTo>
                  <a:pt x="21305" y="14681"/>
                  <a:pt x="21286" y="14725"/>
                  <a:pt x="21282" y="14759"/>
                </a:cubicBezTo>
                <a:cubicBezTo>
                  <a:pt x="21278" y="14791"/>
                  <a:pt x="21263" y="14801"/>
                  <a:pt x="21258" y="14833"/>
                </a:cubicBezTo>
                <a:cubicBezTo>
                  <a:pt x="21250" y="14884"/>
                  <a:pt x="21238" y="14965"/>
                  <a:pt x="21233" y="15007"/>
                </a:cubicBezTo>
                <a:cubicBezTo>
                  <a:pt x="21216" y="15162"/>
                  <a:pt x="21334" y="15816"/>
                  <a:pt x="21208" y="15900"/>
                </a:cubicBezTo>
                <a:cubicBezTo>
                  <a:pt x="21202" y="15904"/>
                  <a:pt x="21116" y="15923"/>
                  <a:pt x="21109" y="15925"/>
                </a:cubicBezTo>
                <a:cubicBezTo>
                  <a:pt x="21065" y="15939"/>
                  <a:pt x="21036" y="15945"/>
                  <a:pt x="20985" y="15949"/>
                </a:cubicBezTo>
                <a:cubicBezTo>
                  <a:pt x="20918" y="15954"/>
                  <a:pt x="20873" y="15943"/>
                  <a:pt x="20811" y="15925"/>
                </a:cubicBezTo>
                <a:cubicBezTo>
                  <a:pt x="20775" y="15914"/>
                  <a:pt x="20741" y="15903"/>
                  <a:pt x="20712" y="15875"/>
                </a:cubicBezTo>
                <a:cubicBezTo>
                  <a:pt x="20697" y="15860"/>
                  <a:pt x="20657" y="15820"/>
                  <a:pt x="20638" y="15801"/>
                </a:cubicBezTo>
                <a:cubicBezTo>
                  <a:pt x="20609" y="15772"/>
                  <a:pt x="20579" y="15742"/>
                  <a:pt x="20563" y="15726"/>
                </a:cubicBezTo>
                <a:cubicBezTo>
                  <a:pt x="20546" y="15709"/>
                  <a:pt x="20519" y="15693"/>
                  <a:pt x="20489" y="15677"/>
                </a:cubicBezTo>
                <a:cubicBezTo>
                  <a:pt x="20460" y="15662"/>
                  <a:pt x="20427" y="15672"/>
                  <a:pt x="20389" y="15652"/>
                </a:cubicBezTo>
                <a:cubicBezTo>
                  <a:pt x="20357" y="15635"/>
                  <a:pt x="20287" y="15572"/>
                  <a:pt x="20265" y="15553"/>
                </a:cubicBezTo>
                <a:cubicBezTo>
                  <a:pt x="20245" y="15536"/>
                  <a:pt x="20229" y="15521"/>
                  <a:pt x="20191" y="15503"/>
                </a:cubicBezTo>
                <a:cubicBezTo>
                  <a:pt x="20171" y="15494"/>
                  <a:pt x="20165" y="15482"/>
                  <a:pt x="20117" y="15478"/>
                </a:cubicBezTo>
                <a:cubicBezTo>
                  <a:pt x="20069" y="15474"/>
                  <a:pt x="20033" y="15458"/>
                  <a:pt x="20017" y="15453"/>
                </a:cubicBezTo>
                <a:cubicBezTo>
                  <a:pt x="19976" y="15439"/>
                  <a:pt x="19937" y="15436"/>
                  <a:pt x="19893" y="15429"/>
                </a:cubicBezTo>
                <a:cubicBezTo>
                  <a:pt x="19831" y="15420"/>
                  <a:pt x="19777" y="15418"/>
                  <a:pt x="19745" y="15404"/>
                </a:cubicBezTo>
                <a:cubicBezTo>
                  <a:pt x="19694" y="15382"/>
                  <a:pt x="19695" y="15399"/>
                  <a:pt x="19645" y="15379"/>
                </a:cubicBezTo>
                <a:cubicBezTo>
                  <a:pt x="19628" y="15372"/>
                  <a:pt x="19573" y="15329"/>
                  <a:pt x="19571" y="15329"/>
                </a:cubicBezTo>
                <a:cubicBezTo>
                  <a:pt x="19517" y="15320"/>
                  <a:pt x="19524" y="15332"/>
                  <a:pt x="19496" y="15304"/>
                </a:cubicBezTo>
                <a:cubicBezTo>
                  <a:pt x="19496" y="15296"/>
                  <a:pt x="19496" y="15288"/>
                  <a:pt x="19496" y="15280"/>
                </a:cubicBezTo>
                <a:cubicBezTo>
                  <a:pt x="19529" y="15277"/>
                  <a:pt x="19540" y="15243"/>
                  <a:pt x="19571" y="15255"/>
                </a:cubicBezTo>
                <a:cubicBezTo>
                  <a:pt x="19634" y="15278"/>
                  <a:pt x="19647" y="15300"/>
                  <a:pt x="19720" y="15304"/>
                </a:cubicBezTo>
                <a:cubicBezTo>
                  <a:pt x="19818" y="15310"/>
                  <a:pt x="19907" y="15307"/>
                  <a:pt x="19993" y="15329"/>
                </a:cubicBezTo>
                <a:cubicBezTo>
                  <a:pt x="20038" y="15340"/>
                  <a:pt x="20102" y="15372"/>
                  <a:pt x="20141" y="15379"/>
                </a:cubicBezTo>
                <a:cubicBezTo>
                  <a:pt x="20188" y="15387"/>
                  <a:pt x="20224" y="15399"/>
                  <a:pt x="20265" y="15404"/>
                </a:cubicBezTo>
                <a:cubicBezTo>
                  <a:pt x="20371" y="15417"/>
                  <a:pt x="20461" y="15400"/>
                  <a:pt x="20563" y="15429"/>
                </a:cubicBezTo>
                <a:cubicBezTo>
                  <a:pt x="20615" y="15444"/>
                  <a:pt x="20699" y="15477"/>
                  <a:pt x="20737" y="15503"/>
                </a:cubicBezTo>
                <a:cubicBezTo>
                  <a:pt x="20778" y="15531"/>
                  <a:pt x="20799" y="15534"/>
                  <a:pt x="20836" y="15553"/>
                </a:cubicBezTo>
                <a:cubicBezTo>
                  <a:pt x="20861" y="15553"/>
                  <a:pt x="20869" y="15553"/>
                  <a:pt x="20861" y="15577"/>
                </a:cubicBezTo>
                <a:cubicBezTo>
                  <a:pt x="20875" y="15512"/>
                  <a:pt x="20894" y="15446"/>
                  <a:pt x="20910" y="15379"/>
                </a:cubicBezTo>
                <a:cubicBezTo>
                  <a:pt x="20945" y="15236"/>
                  <a:pt x="20990" y="15099"/>
                  <a:pt x="21034" y="14957"/>
                </a:cubicBezTo>
                <a:cubicBezTo>
                  <a:pt x="21058" y="14879"/>
                  <a:pt x="21052" y="14776"/>
                  <a:pt x="21084" y="14709"/>
                </a:cubicBezTo>
                <a:cubicBezTo>
                  <a:pt x="21101" y="14673"/>
                  <a:pt x="21127" y="14665"/>
                  <a:pt x="21134" y="14635"/>
                </a:cubicBezTo>
                <a:cubicBezTo>
                  <a:pt x="21151" y="14565"/>
                  <a:pt x="21161" y="14501"/>
                  <a:pt x="21183" y="14436"/>
                </a:cubicBezTo>
                <a:cubicBezTo>
                  <a:pt x="21193" y="14406"/>
                  <a:pt x="21205" y="14366"/>
                  <a:pt x="21208" y="14337"/>
                </a:cubicBezTo>
                <a:cubicBezTo>
                  <a:pt x="21212" y="14301"/>
                  <a:pt x="21208" y="14142"/>
                  <a:pt x="21208" y="14188"/>
                </a:cubicBezTo>
                <a:cubicBezTo>
                  <a:pt x="21208" y="14282"/>
                  <a:pt x="21230" y="14367"/>
                  <a:pt x="21233" y="14461"/>
                </a:cubicBezTo>
                <a:cubicBezTo>
                  <a:pt x="21233" y="14527"/>
                  <a:pt x="21233" y="14544"/>
                  <a:pt x="21233" y="14585"/>
                </a:cubicBezTo>
                <a:cubicBezTo>
                  <a:pt x="21233" y="14618"/>
                  <a:pt x="21233" y="14651"/>
                  <a:pt x="21233" y="14684"/>
                </a:cubicBezTo>
                <a:cubicBezTo>
                  <a:pt x="21233" y="14554"/>
                  <a:pt x="21189" y="14267"/>
                  <a:pt x="21258" y="14188"/>
                </a:cubicBezTo>
                <a:cubicBezTo>
                  <a:pt x="21266" y="14188"/>
                  <a:pt x="21274" y="14188"/>
                  <a:pt x="21282" y="14188"/>
                </a:cubicBezTo>
                <a:cubicBezTo>
                  <a:pt x="21297" y="14195"/>
                  <a:pt x="21318" y="14175"/>
                  <a:pt x="21332" y="14213"/>
                </a:cubicBezTo>
                <a:cubicBezTo>
                  <a:pt x="21359" y="14284"/>
                  <a:pt x="21351" y="14441"/>
                  <a:pt x="21357" y="14511"/>
                </a:cubicBezTo>
                <a:cubicBezTo>
                  <a:pt x="21363" y="14581"/>
                  <a:pt x="21343" y="14650"/>
                  <a:pt x="21332" y="14684"/>
                </a:cubicBezTo>
                <a:cubicBezTo>
                  <a:pt x="21318" y="14726"/>
                  <a:pt x="21322" y="14766"/>
                  <a:pt x="21307" y="14808"/>
                </a:cubicBezTo>
                <a:cubicBezTo>
                  <a:pt x="21296" y="14841"/>
                  <a:pt x="21294" y="14875"/>
                  <a:pt x="21282" y="14908"/>
                </a:cubicBezTo>
                <a:cubicBezTo>
                  <a:pt x="21270" y="14940"/>
                  <a:pt x="21272" y="14940"/>
                  <a:pt x="21258" y="14982"/>
                </a:cubicBezTo>
                <a:cubicBezTo>
                  <a:pt x="21252" y="15000"/>
                  <a:pt x="21242" y="15063"/>
                  <a:pt x="21233" y="15081"/>
                </a:cubicBezTo>
                <a:cubicBezTo>
                  <a:pt x="21211" y="15124"/>
                  <a:pt x="21198" y="15135"/>
                  <a:pt x="21183" y="15180"/>
                </a:cubicBezTo>
                <a:cubicBezTo>
                  <a:pt x="21170" y="15219"/>
                  <a:pt x="21155" y="15272"/>
                  <a:pt x="21134" y="15304"/>
                </a:cubicBezTo>
                <a:cubicBezTo>
                  <a:pt x="21082" y="15386"/>
                  <a:pt x="21084" y="15450"/>
                  <a:pt x="21084" y="15602"/>
                </a:cubicBezTo>
                <a:cubicBezTo>
                  <a:pt x="21084" y="15690"/>
                  <a:pt x="21085" y="15816"/>
                  <a:pt x="21109" y="15900"/>
                </a:cubicBezTo>
                <a:cubicBezTo>
                  <a:pt x="21109" y="15925"/>
                  <a:pt x="21109" y="15933"/>
                  <a:pt x="21134" y="15925"/>
                </a:cubicBezTo>
                <a:cubicBezTo>
                  <a:pt x="21134" y="15732"/>
                  <a:pt x="21139" y="15532"/>
                  <a:pt x="21158" y="15354"/>
                </a:cubicBezTo>
                <a:cubicBezTo>
                  <a:pt x="21174" y="15201"/>
                  <a:pt x="21158" y="15037"/>
                  <a:pt x="21158" y="14883"/>
                </a:cubicBezTo>
                <a:cubicBezTo>
                  <a:pt x="21158" y="14828"/>
                  <a:pt x="21158" y="14828"/>
                  <a:pt x="21158" y="14883"/>
                </a:cubicBezTo>
                <a:cubicBezTo>
                  <a:pt x="21158" y="15027"/>
                  <a:pt x="21180" y="15201"/>
                  <a:pt x="21134" y="15329"/>
                </a:cubicBezTo>
                <a:cubicBezTo>
                  <a:pt x="21133" y="15332"/>
                  <a:pt x="21097" y="15404"/>
                  <a:pt x="21084" y="15429"/>
                </a:cubicBezTo>
                <a:cubicBezTo>
                  <a:pt x="21072" y="15452"/>
                  <a:pt x="21048" y="15512"/>
                  <a:pt x="21034" y="15528"/>
                </a:cubicBezTo>
                <a:cubicBezTo>
                  <a:pt x="21024" y="15539"/>
                  <a:pt x="20996" y="15568"/>
                  <a:pt x="20985" y="15577"/>
                </a:cubicBezTo>
                <a:cubicBezTo>
                  <a:pt x="20964" y="15595"/>
                  <a:pt x="20943" y="15620"/>
                  <a:pt x="20910" y="15627"/>
                </a:cubicBezTo>
                <a:cubicBezTo>
                  <a:pt x="20840" y="15643"/>
                  <a:pt x="20722" y="15637"/>
                  <a:pt x="20662" y="15602"/>
                </a:cubicBezTo>
                <a:cubicBezTo>
                  <a:pt x="20609" y="15571"/>
                  <a:pt x="20637" y="15534"/>
                  <a:pt x="20613" y="15503"/>
                </a:cubicBezTo>
                <a:cubicBezTo>
                  <a:pt x="20600" y="15486"/>
                  <a:pt x="20559" y="15455"/>
                  <a:pt x="20538" y="15429"/>
                </a:cubicBezTo>
                <a:cubicBezTo>
                  <a:pt x="20514" y="15399"/>
                  <a:pt x="20468" y="15394"/>
                  <a:pt x="20439" y="15379"/>
                </a:cubicBezTo>
                <a:cubicBezTo>
                  <a:pt x="20423" y="15371"/>
                  <a:pt x="20385" y="15336"/>
                  <a:pt x="20340" y="15329"/>
                </a:cubicBezTo>
                <a:cubicBezTo>
                  <a:pt x="20205" y="15309"/>
                  <a:pt x="20066" y="15348"/>
                  <a:pt x="19943" y="15304"/>
                </a:cubicBezTo>
                <a:cubicBezTo>
                  <a:pt x="19908" y="15291"/>
                  <a:pt x="19895" y="15284"/>
                  <a:pt x="19869" y="15280"/>
                </a:cubicBezTo>
                <a:cubicBezTo>
                  <a:pt x="19836" y="15275"/>
                  <a:pt x="19827" y="15261"/>
                  <a:pt x="19794" y="15255"/>
                </a:cubicBezTo>
                <a:cubicBezTo>
                  <a:pt x="19733" y="15244"/>
                  <a:pt x="19646" y="15236"/>
                  <a:pt x="19596" y="15230"/>
                </a:cubicBezTo>
                <a:cubicBezTo>
                  <a:pt x="19526" y="15222"/>
                  <a:pt x="19456" y="15244"/>
                  <a:pt x="19422" y="15255"/>
                </a:cubicBezTo>
                <a:cubicBezTo>
                  <a:pt x="19473" y="15251"/>
                  <a:pt x="19532" y="15234"/>
                  <a:pt x="19571" y="15230"/>
                </a:cubicBezTo>
                <a:cubicBezTo>
                  <a:pt x="19691" y="15217"/>
                  <a:pt x="19814" y="15243"/>
                  <a:pt x="19918" y="15255"/>
                </a:cubicBezTo>
                <a:cubicBezTo>
                  <a:pt x="19987" y="15263"/>
                  <a:pt x="19975" y="15273"/>
                  <a:pt x="20017" y="15280"/>
                </a:cubicBezTo>
                <a:cubicBezTo>
                  <a:pt x="20228" y="15315"/>
                  <a:pt x="20620" y="15311"/>
                  <a:pt x="20786" y="15255"/>
                </a:cubicBezTo>
                <a:cubicBezTo>
                  <a:pt x="20821" y="15243"/>
                  <a:pt x="20858" y="15235"/>
                  <a:pt x="20886" y="15205"/>
                </a:cubicBezTo>
                <a:cubicBezTo>
                  <a:pt x="20906" y="15184"/>
                  <a:pt x="20903" y="15163"/>
                  <a:pt x="20935" y="15131"/>
                </a:cubicBezTo>
                <a:cubicBezTo>
                  <a:pt x="20961" y="15105"/>
                  <a:pt x="20999" y="15098"/>
                  <a:pt x="21010" y="15081"/>
                </a:cubicBezTo>
                <a:cubicBezTo>
                  <a:pt x="21020" y="15065"/>
                  <a:pt x="21031" y="15001"/>
                  <a:pt x="21034" y="14982"/>
                </a:cubicBezTo>
                <a:cubicBezTo>
                  <a:pt x="21034" y="14957"/>
                  <a:pt x="21034" y="14949"/>
                  <a:pt x="21034" y="14932"/>
                </a:cubicBezTo>
                <a:cubicBezTo>
                  <a:pt x="21002" y="14939"/>
                  <a:pt x="21055" y="14922"/>
                  <a:pt x="21010" y="14957"/>
                </a:cubicBezTo>
                <a:cubicBezTo>
                  <a:pt x="20988" y="14974"/>
                  <a:pt x="20956" y="14970"/>
                  <a:pt x="20935" y="14982"/>
                </a:cubicBezTo>
                <a:cubicBezTo>
                  <a:pt x="20913" y="14995"/>
                  <a:pt x="20896" y="15021"/>
                  <a:pt x="20861" y="15032"/>
                </a:cubicBezTo>
                <a:cubicBezTo>
                  <a:pt x="20776" y="15058"/>
                  <a:pt x="20667" y="15005"/>
                  <a:pt x="20613" y="15056"/>
                </a:cubicBezTo>
                <a:cubicBezTo>
                  <a:pt x="20591" y="15077"/>
                  <a:pt x="20542" y="15112"/>
                  <a:pt x="20538" y="15131"/>
                </a:cubicBezTo>
                <a:cubicBezTo>
                  <a:pt x="20529" y="15170"/>
                  <a:pt x="20542" y="15215"/>
                  <a:pt x="20538" y="15255"/>
                </a:cubicBezTo>
                <a:cubicBezTo>
                  <a:pt x="20625" y="15255"/>
                  <a:pt x="20765" y="15273"/>
                  <a:pt x="20811" y="15230"/>
                </a:cubicBezTo>
                <a:cubicBezTo>
                  <a:pt x="20835" y="15207"/>
                  <a:pt x="20824" y="15196"/>
                  <a:pt x="20861" y="15180"/>
                </a:cubicBezTo>
                <a:cubicBezTo>
                  <a:pt x="20883" y="15171"/>
                  <a:pt x="20862" y="15185"/>
                  <a:pt x="20886" y="15180"/>
                </a:cubicBezTo>
                <a:cubicBezTo>
                  <a:pt x="20886" y="15389"/>
                  <a:pt x="20925" y="15626"/>
                  <a:pt x="20861" y="15825"/>
                </a:cubicBezTo>
                <a:cubicBezTo>
                  <a:pt x="20852" y="15853"/>
                  <a:pt x="20839" y="15867"/>
                  <a:pt x="20836" y="15875"/>
                </a:cubicBezTo>
                <a:cubicBezTo>
                  <a:pt x="20807" y="15857"/>
                  <a:pt x="20779" y="15876"/>
                  <a:pt x="20762" y="15850"/>
                </a:cubicBezTo>
                <a:cubicBezTo>
                  <a:pt x="20737" y="15812"/>
                  <a:pt x="20735" y="15758"/>
                  <a:pt x="20712" y="15726"/>
                </a:cubicBezTo>
                <a:cubicBezTo>
                  <a:pt x="20703" y="15714"/>
                  <a:pt x="20653" y="15692"/>
                  <a:pt x="20638" y="15677"/>
                </a:cubicBezTo>
                <a:cubicBezTo>
                  <a:pt x="20589" y="15628"/>
                  <a:pt x="20549" y="15607"/>
                  <a:pt x="20513" y="15577"/>
                </a:cubicBezTo>
                <a:cubicBezTo>
                  <a:pt x="20470" y="15541"/>
                  <a:pt x="20483" y="15519"/>
                  <a:pt x="20439" y="15478"/>
                </a:cubicBezTo>
                <a:cubicBezTo>
                  <a:pt x="20427" y="15467"/>
                  <a:pt x="20398" y="15408"/>
                  <a:pt x="20389" y="15404"/>
                </a:cubicBezTo>
                <a:cubicBezTo>
                  <a:pt x="20373" y="15398"/>
                  <a:pt x="20301" y="15381"/>
                  <a:pt x="20290" y="15379"/>
                </a:cubicBezTo>
                <a:cubicBezTo>
                  <a:pt x="20265" y="15379"/>
                  <a:pt x="20257" y="15379"/>
                  <a:pt x="20241" y="15379"/>
                </a:cubicBezTo>
                <a:cubicBezTo>
                  <a:pt x="20241" y="15390"/>
                  <a:pt x="20179" y="15407"/>
                  <a:pt x="20241" y="15429"/>
                </a:cubicBezTo>
                <a:cubicBezTo>
                  <a:pt x="20309" y="15453"/>
                  <a:pt x="20378" y="15404"/>
                  <a:pt x="20439" y="15453"/>
                </a:cubicBezTo>
                <a:cubicBezTo>
                  <a:pt x="20482" y="15489"/>
                  <a:pt x="20528" y="15556"/>
                  <a:pt x="20563" y="15602"/>
                </a:cubicBezTo>
                <a:cubicBezTo>
                  <a:pt x="20576" y="15618"/>
                  <a:pt x="20659" y="15672"/>
                  <a:pt x="20662" y="15677"/>
                </a:cubicBezTo>
                <a:cubicBezTo>
                  <a:pt x="20669" y="15688"/>
                  <a:pt x="20683" y="15764"/>
                  <a:pt x="20687" y="15776"/>
                </a:cubicBezTo>
                <a:cubicBezTo>
                  <a:pt x="20702" y="15820"/>
                  <a:pt x="20714" y="15858"/>
                  <a:pt x="20737" y="15900"/>
                </a:cubicBezTo>
                <a:cubicBezTo>
                  <a:pt x="20761" y="15944"/>
                  <a:pt x="20777" y="15949"/>
                  <a:pt x="20811" y="15974"/>
                </a:cubicBezTo>
                <a:cubicBezTo>
                  <a:pt x="20822" y="15982"/>
                  <a:pt x="20842" y="16021"/>
                  <a:pt x="20886" y="15999"/>
                </a:cubicBezTo>
                <a:cubicBezTo>
                  <a:pt x="20923" y="15980"/>
                  <a:pt x="20904" y="15973"/>
                  <a:pt x="20910" y="15925"/>
                </a:cubicBezTo>
                <a:cubicBezTo>
                  <a:pt x="20918" y="15861"/>
                  <a:pt x="20910" y="15791"/>
                  <a:pt x="20910" y="15726"/>
                </a:cubicBezTo>
                <a:cubicBezTo>
                  <a:pt x="20929" y="15740"/>
                  <a:pt x="20966" y="15742"/>
                  <a:pt x="20985" y="15776"/>
                </a:cubicBezTo>
                <a:cubicBezTo>
                  <a:pt x="21005" y="15810"/>
                  <a:pt x="21014" y="15830"/>
                  <a:pt x="21034" y="15850"/>
                </a:cubicBezTo>
                <a:cubicBezTo>
                  <a:pt x="21034" y="15602"/>
                  <a:pt x="21034" y="15354"/>
                  <a:pt x="21034" y="15106"/>
                </a:cubicBezTo>
                <a:cubicBezTo>
                  <a:pt x="21004" y="15147"/>
                  <a:pt x="20992" y="15196"/>
                  <a:pt x="20960" y="15230"/>
                </a:cubicBezTo>
                <a:cubicBezTo>
                  <a:pt x="20939" y="15253"/>
                  <a:pt x="20925" y="15246"/>
                  <a:pt x="20886" y="15255"/>
                </a:cubicBezTo>
                <a:cubicBezTo>
                  <a:pt x="20831" y="15267"/>
                  <a:pt x="20816" y="15259"/>
                  <a:pt x="20786" y="15280"/>
                </a:cubicBezTo>
                <a:cubicBezTo>
                  <a:pt x="20764" y="15295"/>
                  <a:pt x="20746" y="15312"/>
                  <a:pt x="20712" y="15329"/>
                </a:cubicBezTo>
                <a:cubicBezTo>
                  <a:pt x="20722" y="15241"/>
                  <a:pt x="20722" y="15225"/>
                  <a:pt x="20762" y="15156"/>
                </a:cubicBezTo>
                <a:cubicBezTo>
                  <a:pt x="20778" y="15127"/>
                  <a:pt x="20802" y="15074"/>
                  <a:pt x="20811" y="15056"/>
                </a:cubicBezTo>
                <a:cubicBezTo>
                  <a:pt x="20834" y="15034"/>
                  <a:pt x="20842" y="15029"/>
                  <a:pt x="20836" y="15007"/>
                </a:cubicBezTo>
                <a:cubicBezTo>
                  <a:pt x="20837" y="15012"/>
                  <a:pt x="20867" y="15059"/>
                  <a:pt x="20861" y="15106"/>
                </a:cubicBezTo>
                <a:cubicBezTo>
                  <a:pt x="20854" y="15158"/>
                  <a:pt x="20834" y="15207"/>
                  <a:pt x="20811" y="15230"/>
                </a:cubicBezTo>
                <a:cubicBezTo>
                  <a:pt x="20776" y="15265"/>
                  <a:pt x="20758" y="15251"/>
                  <a:pt x="20712" y="15255"/>
                </a:cubicBezTo>
                <a:cubicBezTo>
                  <a:pt x="20657" y="15259"/>
                  <a:pt x="20665" y="15256"/>
                  <a:pt x="20638" y="15280"/>
                </a:cubicBezTo>
                <a:cubicBezTo>
                  <a:pt x="20638" y="15288"/>
                  <a:pt x="20638" y="15296"/>
                  <a:pt x="20638" y="15304"/>
                </a:cubicBezTo>
                <a:cubicBezTo>
                  <a:pt x="20689" y="15308"/>
                  <a:pt x="20748" y="15325"/>
                  <a:pt x="20786" y="15329"/>
                </a:cubicBezTo>
                <a:cubicBezTo>
                  <a:pt x="20835" y="15334"/>
                  <a:pt x="20843" y="15315"/>
                  <a:pt x="20861" y="15354"/>
                </a:cubicBezTo>
                <a:cubicBezTo>
                  <a:pt x="20900" y="15437"/>
                  <a:pt x="20844" y="15505"/>
                  <a:pt x="20811" y="15528"/>
                </a:cubicBezTo>
                <a:cubicBezTo>
                  <a:pt x="20778" y="15551"/>
                  <a:pt x="20750" y="15551"/>
                  <a:pt x="20687" y="15553"/>
                </a:cubicBezTo>
                <a:cubicBezTo>
                  <a:pt x="20580" y="15557"/>
                  <a:pt x="20658" y="15531"/>
                  <a:pt x="20588" y="15503"/>
                </a:cubicBezTo>
                <a:cubicBezTo>
                  <a:pt x="20580" y="15503"/>
                  <a:pt x="20571" y="15503"/>
                  <a:pt x="20563" y="15503"/>
                </a:cubicBezTo>
                <a:cubicBezTo>
                  <a:pt x="20563" y="15486"/>
                  <a:pt x="20563" y="15470"/>
                  <a:pt x="20563" y="15453"/>
                </a:cubicBezTo>
                <a:cubicBezTo>
                  <a:pt x="20594" y="15475"/>
                  <a:pt x="20594" y="15469"/>
                  <a:pt x="20613" y="15503"/>
                </a:cubicBezTo>
                <a:cubicBezTo>
                  <a:pt x="20629" y="15532"/>
                  <a:pt x="20617" y="15551"/>
                  <a:pt x="20638" y="15577"/>
                </a:cubicBezTo>
                <a:cubicBezTo>
                  <a:pt x="20650" y="15592"/>
                  <a:pt x="20708" y="15615"/>
                  <a:pt x="20712" y="15627"/>
                </a:cubicBezTo>
                <a:cubicBezTo>
                  <a:pt x="20734" y="15689"/>
                  <a:pt x="20715" y="15766"/>
                  <a:pt x="20737" y="15825"/>
                </a:cubicBezTo>
                <a:cubicBezTo>
                  <a:pt x="20751" y="15864"/>
                  <a:pt x="20754" y="15869"/>
                  <a:pt x="20762" y="15900"/>
                </a:cubicBezTo>
                <a:cubicBezTo>
                  <a:pt x="20762" y="15908"/>
                  <a:pt x="20762" y="15917"/>
                  <a:pt x="20762" y="15925"/>
                </a:cubicBezTo>
                <a:cubicBezTo>
                  <a:pt x="20762" y="15859"/>
                  <a:pt x="20768" y="15809"/>
                  <a:pt x="20737" y="15776"/>
                </a:cubicBezTo>
                <a:cubicBezTo>
                  <a:pt x="20721" y="15759"/>
                  <a:pt x="20693" y="15747"/>
                  <a:pt x="20662" y="15726"/>
                </a:cubicBezTo>
                <a:cubicBezTo>
                  <a:pt x="20633" y="15706"/>
                  <a:pt x="20622" y="15698"/>
                  <a:pt x="20588" y="15677"/>
                </a:cubicBezTo>
                <a:cubicBezTo>
                  <a:pt x="20559" y="15659"/>
                  <a:pt x="20560" y="15646"/>
                  <a:pt x="20538" y="15627"/>
                </a:cubicBezTo>
                <a:cubicBezTo>
                  <a:pt x="20512" y="15604"/>
                  <a:pt x="20500" y="15620"/>
                  <a:pt x="20464" y="15602"/>
                </a:cubicBezTo>
                <a:cubicBezTo>
                  <a:pt x="20447" y="15593"/>
                  <a:pt x="20429" y="15588"/>
                  <a:pt x="20389" y="15577"/>
                </a:cubicBezTo>
                <a:cubicBezTo>
                  <a:pt x="20365" y="15570"/>
                  <a:pt x="20340" y="15556"/>
                  <a:pt x="20315" y="15528"/>
                </a:cubicBezTo>
                <a:cubicBezTo>
                  <a:pt x="20301" y="15512"/>
                  <a:pt x="20277" y="15493"/>
                  <a:pt x="20265" y="15478"/>
                </a:cubicBezTo>
                <a:cubicBezTo>
                  <a:pt x="20265" y="15470"/>
                  <a:pt x="20265" y="15461"/>
                  <a:pt x="20265" y="15453"/>
                </a:cubicBezTo>
                <a:cubicBezTo>
                  <a:pt x="20298" y="15437"/>
                  <a:pt x="20295" y="15409"/>
                  <a:pt x="20365" y="15404"/>
                </a:cubicBezTo>
                <a:cubicBezTo>
                  <a:pt x="20531" y="15391"/>
                  <a:pt x="20711" y="15414"/>
                  <a:pt x="20861" y="15429"/>
                </a:cubicBezTo>
                <a:cubicBezTo>
                  <a:pt x="20942" y="15437"/>
                  <a:pt x="21028" y="15429"/>
                  <a:pt x="21109" y="15429"/>
                </a:cubicBezTo>
                <a:cubicBezTo>
                  <a:pt x="21095" y="15349"/>
                  <a:pt x="21114" y="15367"/>
                  <a:pt x="21059" y="15304"/>
                </a:cubicBezTo>
                <a:cubicBezTo>
                  <a:pt x="21016" y="15255"/>
                  <a:pt x="20964" y="15213"/>
                  <a:pt x="20910" y="15180"/>
                </a:cubicBezTo>
                <a:cubicBezTo>
                  <a:pt x="20871" y="15156"/>
                  <a:pt x="20842" y="15180"/>
                  <a:pt x="20811" y="15131"/>
                </a:cubicBezTo>
                <a:cubicBezTo>
                  <a:pt x="20791" y="15099"/>
                  <a:pt x="20819" y="15055"/>
                  <a:pt x="20762" y="15032"/>
                </a:cubicBezTo>
                <a:cubicBezTo>
                  <a:pt x="20742" y="15024"/>
                  <a:pt x="20709" y="15036"/>
                  <a:pt x="20687" y="15032"/>
                </a:cubicBezTo>
                <a:cubicBezTo>
                  <a:pt x="20736" y="15010"/>
                  <a:pt x="20793" y="14984"/>
                  <a:pt x="20836" y="14957"/>
                </a:cubicBezTo>
                <a:cubicBezTo>
                  <a:pt x="20905" y="14914"/>
                  <a:pt x="20964" y="14883"/>
                  <a:pt x="21034" y="14858"/>
                </a:cubicBezTo>
                <a:cubicBezTo>
                  <a:pt x="21071" y="14845"/>
                  <a:pt x="21098" y="14822"/>
                  <a:pt x="21134" y="14808"/>
                </a:cubicBezTo>
                <a:cubicBezTo>
                  <a:pt x="21184" y="14788"/>
                  <a:pt x="21184" y="14817"/>
                  <a:pt x="21208" y="14759"/>
                </a:cubicBezTo>
                <a:cubicBezTo>
                  <a:pt x="21224" y="14721"/>
                  <a:pt x="21228" y="14701"/>
                  <a:pt x="21233" y="14660"/>
                </a:cubicBezTo>
                <a:cubicBezTo>
                  <a:pt x="21239" y="14609"/>
                  <a:pt x="21245" y="14580"/>
                  <a:pt x="21258" y="14536"/>
                </a:cubicBezTo>
                <a:cubicBezTo>
                  <a:pt x="21273" y="14488"/>
                  <a:pt x="21293" y="14454"/>
                  <a:pt x="21307" y="14412"/>
                </a:cubicBezTo>
                <a:cubicBezTo>
                  <a:pt x="21329" y="14346"/>
                  <a:pt x="21333" y="14278"/>
                  <a:pt x="21357" y="14213"/>
                </a:cubicBezTo>
                <a:cubicBezTo>
                  <a:pt x="21359" y="14209"/>
                  <a:pt x="21373" y="14167"/>
                  <a:pt x="21382" y="14139"/>
                </a:cubicBezTo>
                <a:cubicBezTo>
                  <a:pt x="21383" y="14135"/>
                  <a:pt x="21399" y="14093"/>
                  <a:pt x="21406" y="14064"/>
                </a:cubicBezTo>
                <a:cubicBezTo>
                  <a:pt x="21416" y="14020"/>
                  <a:pt x="21427" y="14006"/>
                  <a:pt x="21456" y="13990"/>
                </a:cubicBezTo>
                <a:cubicBezTo>
                  <a:pt x="21481" y="13990"/>
                  <a:pt x="21489" y="13990"/>
                  <a:pt x="21506" y="13990"/>
                </a:cubicBezTo>
              </a:path>
              <a:path w="6153" h="7170">
                <a:moveTo>
                  <a:pt x="20092" y="10220"/>
                </a:moveTo>
                <a:cubicBezTo>
                  <a:pt x="20183" y="10220"/>
                  <a:pt x="20285" y="10218"/>
                  <a:pt x="20340" y="10244"/>
                </a:cubicBezTo>
                <a:cubicBezTo>
                  <a:pt x="20376" y="10261"/>
                  <a:pt x="20367" y="10264"/>
                  <a:pt x="20389" y="10294"/>
                </a:cubicBezTo>
                <a:cubicBezTo>
                  <a:pt x="20430" y="10348"/>
                  <a:pt x="20488" y="10382"/>
                  <a:pt x="20513" y="10443"/>
                </a:cubicBezTo>
                <a:cubicBezTo>
                  <a:pt x="20526" y="10475"/>
                  <a:pt x="20535" y="10493"/>
                  <a:pt x="20538" y="10517"/>
                </a:cubicBezTo>
                <a:cubicBezTo>
                  <a:pt x="20543" y="10554"/>
                  <a:pt x="20579" y="10542"/>
                  <a:pt x="20538" y="10542"/>
                </a:cubicBezTo>
                <a:cubicBezTo>
                  <a:pt x="20507" y="10542"/>
                  <a:pt x="20472" y="10534"/>
                  <a:pt x="20464" y="10517"/>
                </a:cubicBezTo>
                <a:cubicBezTo>
                  <a:pt x="20460" y="10509"/>
                  <a:pt x="20423" y="10449"/>
                  <a:pt x="20414" y="10443"/>
                </a:cubicBezTo>
                <a:cubicBezTo>
                  <a:pt x="20402" y="10435"/>
                  <a:pt x="20354" y="10395"/>
                  <a:pt x="20340" y="10368"/>
                </a:cubicBezTo>
                <a:cubicBezTo>
                  <a:pt x="20320" y="10329"/>
                  <a:pt x="20289" y="10367"/>
                  <a:pt x="20265" y="10319"/>
                </a:cubicBezTo>
                <a:cubicBezTo>
                  <a:pt x="20242" y="10273"/>
                  <a:pt x="20216" y="10325"/>
                  <a:pt x="20191" y="10294"/>
                </a:cubicBezTo>
                <a:cubicBezTo>
                  <a:pt x="20175" y="10274"/>
                  <a:pt x="20146" y="10248"/>
                  <a:pt x="20117" y="10244"/>
                </a:cubicBezTo>
                <a:cubicBezTo>
                  <a:pt x="20093" y="10241"/>
                  <a:pt x="20066" y="10244"/>
                  <a:pt x="20042" y="10244"/>
                </a:cubicBezTo>
                <a:cubicBezTo>
                  <a:pt x="20042" y="10283"/>
                  <a:pt x="20026" y="10314"/>
                  <a:pt x="20067" y="10319"/>
                </a:cubicBezTo>
                <a:cubicBezTo>
                  <a:pt x="20116" y="10325"/>
                  <a:pt x="20235" y="10294"/>
                  <a:pt x="20241" y="10344"/>
                </a:cubicBezTo>
                <a:cubicBezTo>
                  <a:pt x="20246" y="10381"/>
                  <a:pt x="20266" y="10375"/>
                  <a:pt x="20290" y="10393"/>
                </a:cubicBezTo>
                <a:cubicBezTo>
                  <a:pt x="20320" y="10416"/>
                  <a:pt x="20362" y="10443"/>
                  <a:pt x="20365" y="10468"/>
                </a:cubicBezTo>
                <a:cubicBezTo>
                  <a:pt x="20365" y="10492"/>
                  <a:pt x="20365" y="10501"/>
                  <a:pt x="20365" y="10517"/>
                </a:cubicBezTo>
                <a:cubicBezTo>
                  <a:pt x="20306" y="10517"/>
                  <a:pt x="20327" y="10509"/>
                  <a:pt x="20290" y="10468"/>
                </a:cubicBezTo>
                <a:cubicBezTo>
                  <a:pt x="20266" y="10441"/>
                  <a:pt x="20227" y="10432"/>
                  <a:pt x="20216" y="10418"/>
                </a:cubicBezTo>
                <a:cubicBezTo>
                  <a:pt x="20197" y="10394"/>
                  <a:pt x="20205" y="10373"/>
                  <a:pt x="20166" y="10368"/>
                </a:cubicBezTo>
                <a:cubicBezTo>
                  <a:pt x="20107" y="10361"/>
                  <a:pt x="20124" y="10340"/>
                  <a:pt x="20092" y="10319"/>
                </a:cubicBezTo>
                <a:cubicBezTo>
                  <a:pt x="20060" y="10298"/>
                  <a:pt x="20067" y="10295"/>
                  <a:pt x="20067" y="10244"/>
                </a:cubicBezTo>
                <a:cubicBezTo>
                  <a:pt x="20067" y="10198"/>
                  <a:pt x="20066" y="10176"/>
                  <a:pt x="20117" y="10170"/>
                </a:cubicBezTo>
                <a:cubicBezTo>
                  <a:pt x="20188" y="10162"/>
                  <a:pt x="20255" y="10177"/>
                  <a:pt x="20290" y="10195"/>
                </a:cubicBezTo>
                <a:cubicBezTo>
                  <a:pt x="20314" y="10207"/>
                  <a:pt x="20325" y="10237"/>
                  <a:pt x="20340" y="10244"/>
                </a:cubicBezTo>
                <a:cubicBezTo>
                  <a:pt x="20368" y="10258"/>
                  <a:pt x="20402" y="10245"/>
                  <a:pt x="20414" y="10269"/>
                </a:cubicBezTo>
                <a:cubicBezTo>
                  <a:pt x="20419" y="10280"/>
                  <a:pt x="20434" y="10364"/>
                  <a:pt x="20439" y="10368"/>
                </a:cubicBezTo>
                <a:cubicBezTo>
                  <a:pt x="20458" y="10383"/>
                  <a:pt x="20475" y="10414"/>
                  <a:pt x="20513" y="10418"/>
                </a:cubicBezTo>
                <a:cubicBezTo>
                  <a:pt x="20568" y="10424"/>
                  <a:pt x="20590" y="10432"/>
                  <a:pt x="20613" y="10443"/>
                </a:cubicBezTo>
                <a:cubicBezTo>
                  <a:pt x="20643" y="10458"/>
                  <a:pt x="20651" y="10458"/>
                  <a:pt x="20662" y="10492"/>
                </a:cubicBezTo>
              </a:path>
              <a:path w="6153" h="7170">
                <a:moveTo>
                  <a:pt x="21134" y="11237"/>
                </a:moveTo>
                <a:cubicBezTo>
                  <a:pt x="21179" y="11222"/>
                  <a:pt x="21228" y="11195"/>
                  <a:pt x="21282" y="11187"/>
                </a:cubicBezTo>
                <a:cubicBezTo>
                  <a:pt x="21342" y="11178"/>
                  <a:pt x="21381" y="11202"/>
                  <a:pt x="21406" y="11212"/>
                </a:cubicBezTo>
                <a:cubicBezTo>
                  <a:pt x="21436" y="11225"/>
                  <a:pt x="21425" y="11250"/>
                  <a:pt x="21456" y="11261"/>
                </a:cubicBezTo>
                <a:cubicBezTo>
                  <a:pt x="21539" y="11290"/>
                  <a:pt x="21626" y="11240"/>
                  <a:pt x="21704" y="11286"/>
                </a:cubicBezTo>
                <a:cubicBezTo>
                  <a:pt x="21736" y="11305"/>
                  <a:pt x="21755" y="11308"/>
                  <a:pt x="21779" y="11336"/>
                </a:cubicBezTo>
                <a:cubicBezTo>
                  <a:pt x="21798" y="11357"/>
                  <a:pt x="21782" y="11392"/>
                  <a:pt x="21803" y="11410"/>
                </a:cubicBezTo>
                <a:cubicBezTo>
                  <a:pt x="21828" y="11431"/>
                  <a:pt x="21872" y="11454"/>
                  <a:pt x="21903" y="11485"/>
                </a:cubicBezTo>
                <a:cubicBezTo>
                  <a:pt x="21939" y="11521"/>
                  <a:pt x="21947" y="11549"/>
                  <a:pt x="21977" y="11584"/>
                </a:cubicBezTo>
                <a:cubicBezTo>
                  <a:pt x="21995" y="11605"/>
                  <a:pt x="22023" y="11611"/>
                  <a:pt x="22051" y="11633"/>
                </a:cubicBezTo>
                <a:cubicBezTo>
                  <a:pt x="22057" y="11638"/>
                  <a:pt x="22117" y="11695"/>
                  <a:pt x="22126" y="11708"/>
                </a:cubicBezTo>
                <a:cubicBezTo>
                  <a:pt x="22139" y="11727"/>
                  <a:pt x="22140" y="11784"/>
                  <a:pt x="22151" y="11807"/>
                </a:cubicBezTo>
                <a:cubicBezTo>
                  <a:pt x="22158" y="11822"/>
                  <a:pt x="22189" y="11858"/>
                  <a:pt x="22200" y="11881"/>
                </a:cubicBezTo>
                <a:cubicBezTo>
                  <a:pt x="22208" y="11898"/>
                  <a:pt x="22238" y="11933"/>
                  <a:pt x="22250" y="11956"/>
                </a:cubicBezTo>
                <a:cubicBezTo>
                  <a:pt x="22261" y="11977"/>
                  <a:pt x="22271" y="11980"/>
                  <a:pt x="22275" y="12030"/>
                </a:cubicBezTo>
                <a:cubicBezTo>
                  <a:pt x="22279" y="12081"/>
                  <a:pt x="22278" y="12135"/>
                  <a:pt x="22299" y="12179"/>
                </a:cubicBezTo>
                <a:cubicBezTo>
                  <a:pt x="22316" y="12214"/>
                  <a:pt x="22334" y="12242"/>
                  <a:pt x="22349" y="12278"/>
                </a:cubicBezTo>
                <a:cubicBezTo>
                  <a:pt x="22367" y="12323"/>
                  <a:pt x="22387" y="12330"/>
                  <a:pt x="22399" y="12378"/>
                </a:cubicBezTo>
                <a:cubicBezTo>
                  <a:pt x="22411" y="12426"/>
                  <a:pt x="22417" y="12453"/>
                  <a:pt x="22423" y="12502"/>
                </a:cubicBezTo>
                <a:cubicBezTo>
                  <a:pt x="22430" y="12561"/>
                  <a:pt x="22439" y="12622"/>
                  <a:pt x="22448" y="12650"/>
                </a:cubicBezTo>
                <a:cubicBezTo>
                  <a:pt x="22461" y="12688"/>
                  <a:pt x="22468" y="12708"/>
                  <a:pt x="22473" y="12750"/>
                </a:cubicBezTo>
                <a:cubicBezTo>
                  <a:pt x="22478" y="12790"/>
                  <a:pt x="22473" y="12834"/>
                  <a:pt x="22473" y="12874"/>
                </a:cubicBezTo>
                <a:cubicBezTo>
                  <a:pt x="22514" y="12874"/>
                  <a:pt x="22556" y="12874"/>
                  <a:pt x="22597" y="12874"/>
                </a:cubicBezTo>
                <a:cubicBezTo>
                  <a:pt x="22597" y="12549"/>
                  <a:pt x="22608" y="12164"/>
                  <a:pt x="22572" y="11881"/>
                </a:cubicBezTo>
                <a:cubicBezTo>
                  <a:pt x="22566" y="11837"/>
                  <a:pt x="22552" y="11790"/>
                  <a:pt x="22547" y="11757"/>
                </a:cubicBezTo>
                <a:cubicBezTo>
                  <a:pt x="22542" y="11725"/>
                  <a:pt x="22528" y="11715"/>
                  <a:pt x="22523" y="11683"/>
                </a:cubicBezTo>
                <a:cubicBezTo>
                  <a:pt x="22502" y="11557"/>
                  <a:pt x="22515" y="11371"/>
                  <a:pt x="22547" y="11261"/>
                </a:cubicBezTo>
                <a:cubicBezTo>
                  <a:pt x="22557" y="11226"/>
                  <a:pt x="22589" y="11195"/>
                  <a:pt x="22597" y="11162"/>
                </a:cubicBezTo>
                <a:cubicBezTo>
                  <a:pt x="22612" y="11103"/>
                  <a:pt x="22596" y="11067"/>
                  <a:pt x="22622" y="11013"/>
                </a:cubicBezTo>
                <a:cubicBezTo>
                  <a:pt x="22636" y="10984"/>
                  <a:pt x="22667" y="10955"/>
                  <a:pt x="22696" y="10914"/>
                </a:cubicBezTo>
                <a:cubicBezTo>
                  <a:pt x="22714" y="10889"/>
                  <a:pt x="22739" y="10853"/>
                  <a:pt x="22771" y="10815"/>
                </a:cubicBezTo>
                <a:cubicBezTo>
                  <a:pt x="22816" y="10762"/>
                  <a:pt x="22869" y="10723"/>
                  <a:pt x="22920" y="10691"/>
                </a:cubicBezTo>
                <a:cubicBezTo>
                  <a:pt x="22945" y="10676"/>
                  <a:pt x="22941" y="10670"/>
                  <a:pt x="22994" y="10666"/>
                </a:cubicBezTo>
                <a:cubicBezTo>
                  <a:pt x="23077" y="10660"/>
                  <a:pt x="23171" y="10672"/>
                  <a:pt x="23217" y="10691"/>
                </a:cubicBezTo>
                <a:cubicBezTo>
                  <a:pt x="23225" y="10695"/>
                  <a:pt x="23285" y="10708"/>
                  <a:pt x="23292" y="10716"/>
                </a:cubicBezTo>
                <a:cubicBezTo>
                  <a:pt x="23310" y="10735"/>
                  <a:pt x="23296" y="10774"/>
                  <a:pt x="23316" y="10790"/>
                </a:cubicBezTo>
                <a:cubicBezTo>
                  <a:pt x="23344" y="10813"/>
                  <a:pt x="23349" y="10803"/>
                  <a:pt x="23366" y="10840"/>
                </a:cubicBezTo>
                <a:cubicBezTo>
                  <a:pt x="23385" y="10882"/>
                  <a:pt x="23382" y="10891"/>
                  <a:pt x="23391" y="10939"/>
                </a:cubicBezTo>
              </a:path>
              <a:path w="6153" h="7170">
                <a:moveTo>
                  <a:pt x="24234" y="11112"/>
                </a:moveTo>
                <a:cubicBezTo>
                  <a:pt x="24234" y="11162"/>
                  <a:pt x="24250" y="11223"/>
                  <a:pt x="24209" y="11237"/>
                </a:cubicBezTo>
                <a:cubicBezTo>
                  <a:pt x="24175" y="11225"/>
                  <a:pt x="24185" y="11193"/>
                  <a:pt x="24135" y="11187"/>
                </a:cubicBezTo>
                <a:cubicBezTo>
                  <a:pt x="24103" y="11183"/>
                  <a:pt x="24068" y="11187"/>
                  <a:pt x="24036" y="11187"/>
                </a:cubicBezTo>
                <a:cubicBezTo>
                  <a:pt x="24036" y="11135"/>
                  <a:pt x="24033" y="11137"/>
                  <a:pt x="24085" y="11137"/>
                </a:cubicBezTo>
                <a:cubicBezTo>
                  <a:pt x="24158" y="11137"/>
                  <a:pt x="24220" y="11142"/>
                  <a:pt x="24259" y="11162"/>
                </a:cubicBezTo>
                <a:cubicBezTo>
                  <a:pt x="24284" y="11175"/>
                  <a:pt x="24293" y="11204"/>
                  <a:pt x="24309" y="11212"/>
                </a:cubicBezTo>
                <a:cubicBezTo>
                  <a:pt x="24330" y="11223"/>
                  <a:pt x="24355" y="11261"/>
                  <a:pt x="24358" y="11286"/>
                </a:cubicBezTo>
                <a:cubicBezTo>
                  <a:pt x="24367" y="11358"/>
                  <a:pt x="24358" y="11436"/>
                  <a:pt x="24358" y="11509"/>
                </a:cubicBezTo>
                <a:cubicBezTo>
                  <a:pt x="24304" y="11509"/>
                  <a:pt x="24283" y="11496"/>
                  <a:pt x="24259" y="11485"/>
                </a:cubicBezTo>
                <a:cubicBezTo>
                  <a:pt x="24251" y="11485"/>
                  <a:pt x="24242" y="11485"/>
                  <a:pt x="24234" y="11485"/>
                </a:cubicBezTo>
              </a:path>
              <a:path w="6153" h="7170">
                <a:moveTo>
                  <a:pt x="24259" y="11286"/>
                </a:moveTo>
                <a:cubicBezTo>
                  <a:pt x="24259" y="11297"/>
                  <a:pt x="24259" y="11403"/>
                  <a:pt x="24259" y="11336"/>
                </a:cubicBezTo>
              </a:path>
              <a:path w="6153" h="7170">
                <a:moveTo>
                  <a:pt x="24457" y="10988"/>
                </a:moveTo>
                <a:cubicBezTo>
                  <a:pt x="24457" y="11047"/>
                  <a:pt x="24467" y="11067"/>
                  <a:pt x="24482" y="11112"/>
                </a:cubicBezTo>
                <a:cubicBezTo>
                  <a:pt x="24495" y="11149"/>
                  <a:pt x="24507" y="11169"/>
                  <a:pt x="24507" y="11212"/>
                </a:cubicBezTo>
                <a:cubicBezTo>
                  <a:pt x="24532" y="11212"/>
                  <a:pt x="24540" y="11212"/>
                  <a:pt x="24557" y="11212"/>
                </a:cubicBezTo>
              </a:path>
              <a:path w="6153" h="7170">
                <a:moveTo>
                  <a:pt x="23068" y="10964"/>
                </a:moveTo>
                <a:cubicBezTo>
                  <a:pt x="23037" y="10989"/>
                  <a:pt x="23011" y="10994"/>
                  <a:pt x="22994" y="11013"/>
                </a:cubicBezTo>
                <a:cubicBezTo>
                  <a:pt x="22977" y="11032"/>
                  <a:pt x="22969" y="11087"/>
                  <a:pt x="22944" y="11112"/>
                </a:cubicBezTo>
                <a:cubicBezTo>
                  <a:pt x="22897" y="11159"/>
                  <a:pt x="22892" y="11142"/>
                  <a:pt x="22870" y="11187"/>
                </a:cubicBezTo>
                <a:cubicBezTo>
                  <a:pt x="22849" y="11230"/>
                  <a:pt x="22853" y="11237"/>
                  <a:pt x="22845" y="11286"/>
                </a:cubicBezTo>
                <a:cubicBezTo>
                  <a:pt x="22835" y="11344"/>
                  <a:pt x="22829" y="11411"/>
                  <a:pt x="22820" y="11460"/>
                </a:cubicBezTo>
                <a:cubicBezTo>
                  <a:pt x="22815" y="11427"/>
                  <a:pt x="22789" y="11310"/>
                  <a:pt x="22796" y="11237"/>
                </a:cubicBezTo>
                <a:cubicBezTo>
                  <a:pt x="22804" y="11155"/>
                  <a:pt x="22824" y="11090"/>
                  <a:pt x="22845" y="11013"/>
                </a:cubicBezTo>
                <a:cubicBezTo>
                  <a:pt x="22864" y="10945"/>
                  <a:pt x="22843" y="10945"/>
                  <a:pt x="22870" y="10889"/>
                </a:cubicBezTo>
                <a:cubicBezTo>
                  <a:pt x="22871" y="10887"/>
                  <a:pt x="22910" y="10831"/>
                  <a:pt x="22920" y="10815"/>
                </a:cubicBezTo>
                <a:cubicBezTo>
                  <a:pt x="22939" y="10784"/>
                  <a:pt x="22943" y="10765"/>
                  <a:pt x="22969" y="10740"/>
                </a:cubicBezTo>
                <a:cubicBezTo>
                  <a:pt x="22986" y="10724"/>
                  <a:pt x="23010" y="10701"/>
                  <a:pt x="23044" y="10691"/>
                </a:cubicBezTo>
                <a:cubicBezTo>
                  <a:pt x="23074" y="10682"/>
                  <a:pt x="23112" y="10695"/>
                  <a:pt x="23143" y="10691"/>
                </a:cubicBezTo>
                <a:cubicBezTo>
                  <a:pt x="23160" y="10719"/>
                  <a:pt x="23185" y="10708"/>
                  <a:pt x="23192" y="10740"/>
                </a:cubicBezTo>
                <a:cubicBezTo>
                  <a:pt x="23205" y="10797"/>
                  <a:pt x="23204" y="10944"/>
                  <a:pt x="23168" y="10964"/>
                </a:cubicBezTo>
                <a:cubicBezTo>
                  <a:pt x="23149" y="10975"/>
                  <a:pt x="23064" y="10982"/>
                  <a:pt x="23044" y="10988"/>
                </a:cubicBezTo>
                <a:cubicBezTo>
                  <a:pt x="23002" y="11000"/>
                  <a:pt x="22984" y="10995"/>
                  <a:pt x="22944" y="11013"/>
                </a:cubicBezTo>
                <a:cubicBezTo>
                  <a:pt x="22913" y="11027"/>
                  <a:pt x="22918" y="11058"/>
                  <a:pt x="22870" y="11063"/>
                </a:cubicBezTo>
                <a:cubicBezTo>
                  <a:pt x="22845" y="11063"/>
                  <a:pt x="22837" y="11063"/>
                  <a:pt x="22845" y="11038"/>
                </a:cubicBezTo>
                <a:cubicBezTo>
                  <a:pt x="22863" y="11023"/>
                  <a:pt x="22886" y="10986"/>
                  <a:pt x="22920" y="10964"/>
                </a:cubicBezTo>
                <a:cubicBezTo>
                  <a:pt x="22945" y="10948"/>
                  <a:pt x="22944" y="10949"/>
                  <a:pt x="22994" y="10939"/>
                </a:cubicBezTo>
                <a:cubicBezTo>
                  <a:pt x="23111" y="10916"/>
                  <a:pt x="23238" y="10966"/>
                  <a:pt x="23341" y="10914"/>
                </a:cubicBezTo>
                <a:cubicBezTo>
                  <a:pt x="23341" y="10906"/>
                  <a:pt x="23341" y="10897"/>
                  <a:pt x="23341" y="10889"/>
                </a:cubicBezTo>
                <a:cubicBezTo>
                  <a:pt x="23300" y="10894"/>
                  <a:pt x="23308" y="10881"/>
                  <a:pt x="23267" y="10889"/>
                </a:cubicBezTo>
                <a:cubicBezTo>
                  <a:pt x="23219" y="10898"/>
                  <a:pt x="23225" y="10895"/>
                  <a:pt x="23192" y="10914"/>
                </a:cubicBezTo>
                <a:cubicBezTo>
                  <a:pt x="23171" y="10926"/>
                  <a:pt x="23148" y="10953"/>
                  <a:pt x="23118" y="10964"/>
                </a:cubicBezTo>
                <a:cubicBezTo>
                  <a:pt x="23087" y="10976"/>
                  <a:pt x="23076" y="10982"/>
                  <a:pt x="23044" y="10988"/>
                </a:cubicBezTo>
                <a:cubicBezTo>
                  <a:pt x="22987" y="10998"/>
                  <a:pt x="23003" y="11007"/>
                  <a:pt x="22994" y="10988"/>
                </a:cubicBezTo>
                <a:cubicBezTo>
                  <a:pt x="22970" y="10938"/>
                  <a:pt x="23012" y="10879"/>
                  <a:pt x="23019" y="10864"/>
                </a:cubicBezTo>
                <a:cubicBezTo>
                  <a:pt x="23036" y="10829"/>
                  <a:pt x="23063" y="10788"/>
                  <a:pt x="23093" y="10765"/>
                </a:cubicBezTo>
                <a:cubicBezTo>
                  <a:pt x="23118" y="10765"/>
                  <a:pt x="23126" y="10765"/>
                  <a:pt x="23143" y="10765"/>
                </a:cubicBezTo>
                <a:cubicBezTo>
                  <a:pt x="23151" y="10765"/>
                  <a:pt x="23160" y="10765"/>
                  <a:pt x="23168" y="10765"/>
                </a:cubicBezTo>
                <a:cubicBezTo>
                  <a:pt x="23144" y="10792"/>
                  <a:pt x="23174" y="10796"/>
                  <a:pt x="23143" y="10815"/>
                </a:cubicBezTo>
                <a:cubicBezTo>
                  <a:pt x="23115" y="10832"/>
                  <a:pt x="23100" y="10830"/>
                  <a:pt x="23068" y="10840"/>
                </a:cubicBezTo>
                <a:cubicBezTo>
                  <a:pt x="23027" y="10854"/>
                  <a:pt x="22959" y="10846"/>
                  <a:pt x="22920" y="10864"/>
                </a:cubicBezTo>
                <a:cubicBezTo>
                  <a:pt x="22915" y="10866"/>
                  <a:pt x="22847" y="10910"/>
                  <a:pt x="22845" y="10914"/>
                </a:cubicBezTo>
                <a:cubicBezTo>
                  <a:pt x="22797" y="11013"/>
                  <a:pt x="22857" y="11205"/>
                  <a:pt x="22820" y="11286"/>
                </a:cubicBezTo>
                <a:cubicBezTo>
                  <a:pt x="22812" y="11303"/>
                  <a:pt x="22788" y="11368"/>
                  <a:pt x="22771" y="11385"/>
                </a:cubicBezTo>
                <a:cubicBezTo>
                  <a:pt x="22733" y="11424"/>
                  <a:pt x="22726" y="11435"/>
                  <a:pt x="22696" y="11485"/>
                </a:cubicBezTo>
                <a:cubicBezTo>
                  <a:pt x="22675" y="11519"/>
                  <a:pt x="22642" y="11547"/>
                  <a:pt x="22622" y="11559"/>
                </a:cubicBezTo>
                <a:cubicBezTo>
                  <a:pt x="22597" y="11559"/>
                  <a:pt x="22589" y="11559"/>
                  <a:pt x="22572" y="11559"/>
                </a:cubicBezTo>
                <a:cubicBezTo>
                  <a:pt x="22572" y="11376"/>
                  <a:pt x="22521" y="11048"/>
                  <a:pt x="22597" y="10914"/>
                </a:cubicBezTo>
                <a:cubicBezTo>
                  <a:pt x="22602" y="10905"/>
                  <a:pt x="22637" y="10877"/>
                  <a:pt x="22647" y="10864"/>
                </a:cubicBezTo>
                <a:cubicBezTo>
                  <a:pt x="22647" y="10865"/>
                  <a:pt x="22668" y="10907"/>
                  <a:pt x="22671" y="10939"/>
                </a:cubicBezTo>
                <a:cubicBezTo>
                  <a:pt x="22686" y="11087"/>
                  <a:pt x="22670" y="11274"/>
                  <a:pt x="22696" y="11385"/>
                </a:cubicBezTo>
                <a:cubicBezTo>
                  <a:pt x="22697" y="11383"/>
                  <a:pt x="22717" y="11345"/>
                  <a:pt x="22721" y="11311"/>
                </a:cubicBezTo>
                <a:cubicBezTo>
                  <a:pt x="22734" y="11190"/>
                  <a:pt x="22721" y="11061"/>
                  <a:pt x="22721" y="10939"/>
                </a:cubicBezTo>
                <a:cubicBezTo>
                  <a:pt x="22724" y="10952"/>
                  <a:pt x="22744" y="11013"/>
                  <a:pt x="22746" y="11063"/>
                </a:cubicBezTo>
                <a:cubicBezTo>
                  <a:pt x="22749" y="11162"/>
                  <a:pt x="22740" y="11252"/>
                  <a:pt x="22721" y="11336"/>
                </a:cubicBezTo>
                <a:cubicBezTo>
                  <a:pt x="22712" y="11375"/>
                  <a:pt x="22705" y="11399"/>
                  <a:pt x="22696" y="11435"/>
                </a:cubicBezTo>
                <a:cubicBezTo>
                  <a:pt x="22687" y="11470"/>
                  <a:pt x="22675" y="11501"/>
                  <a:pt x="22671" y="11534"/>
                </a:cubicBezTo>
                <a:cubicBezTo>
                  <a:pt x="22652" y="11707"/>
                  <a:pt x="22683" y="11899"/>
                  <a:pt x="22696" y="12055"/>
                </a:cubicBezTo>
                <a:cubicBezTo>
                  <a:pt x="22708" y="12202"/>
                  <a:pt x="22753" y="12336"/>
                  <a:pt x="22771" y="12477"/>
                </a:cubicBezTo>
                <a:cubicBezTo>
                  <a:pt x="22796" y="12667"/>
                  <a:pt x="22760" y="12923"/>
                  <a:pt x="22746" y="13072"/>
                </a:cubicBezTo>
                <a:cubicBezTo>
                  <a:pt x="22738" y="13158"/>
                  <a:pt x="22739" y="13235"/>
                  <a:pt x="22721" y="13320"/>
                </a:cubicBezTo>
                <a:cubicBezTo>
                  <a:pt x="22709" y="13379"/>
                  <a:pt x="22691" y="13394"/>
                  <a:pt x="22671" y="13444"/>
                </a:cubicBezTo>
                <a:cubicBezTo>
                  <a:pt x="22663" y="13465"/>
                  <a:pt x="22647" y="13518"/>
                  <a:pt x="22647" y="13519"/>
                </a:cubicBezTo>
                <a:cubicBezTo>
                  <a:pt x="22623" y="13583"/>
                  <a:pt x="22621" y="13555"/>
                  <a:pt x="22597" y="13593"/>
                </a:cubicBezTo>
                <a:cubicBezTo>
                  <a:pt x="22583" y="13615"/>
                  <a:pt x="22550" y="13661"/>
                  <a:pt x="22547" y="13667"/>
                </a:cubicBezTo>
                <a:cubicBezTo>
                  <a:pt x="22531" y="13701"/>
                  <a:pt x="22548" y="13721"/>
                  <a:pt x="22523" y="13742"/>
                </a:cubicBezTo>
                <a:cubicBezTo>
                  <a:pt x="22503" y="13759"/>
                  <a:pt x="22470" y="13749"/>
                  <a:pt x="22448" y="13767"/>
                </a:cubicBezTo>
                <a:cubicBezTo>
                  <a:pt x="22433" y="13780"/>
                  <a:pt x="22406" y="13819"/>
                  <a:pt x="22374" y="13841"/>
                </a:cubicBezTo>
                <a:cubicBezTo>
                  <a:pt x="22341" y="13864"/>
                  <a:pt x="22315" y="13900"/>
                  <a:pt x="22299" y="13915"/>
                </a:cubicBezTo>
                <a:cubicBezTo>
                  <a:pt x="22269" y="13944"/>
                  <a:pt x="22224" y="13969"/>
                  <a:pt x="22200" y="13990"/>
                </a:cubicBezTo>
                <a:cubicBezTo>
                  <a:pt x="22184" y="14004"/>
                  <a:pt x="22168" y="14024"/>
                  <a:pt x="22151" y="14039"/>
                </a:cubicBezTo>
                <a:cubicBezTo>
                  <a:pt x="22150" y="14031"/>
                  <a:pt x="22127" y="13984"/>
                  <a:pt x="22126" y="13940"/>
                </a:cubicBezTo>
                <a:cubicBezTo>
                  <a:pt x="22123" y="13847"/>
                  <a:pt x="22145" y="13743"/>
                  <a:pt x="22151" y="13667"/>
                </a:cubicBezTo>
                <a:cubicBezTo>
                  <a:pt x="22154" y="13624"/>
                  <a:pt x="22172" y="13574"/>
                  <a:pt x="22175" y="13543"/>
                </a:cubicBezTo>
                <a:cubicBezTo>
                  <a:pt x="22180" y="13489"/>
                  <a:pt x="22188" y="13469"/>
                  <a:pt x="22200" y="13444"/>
                </a:cubicBezTo>
                <a:cubicBezTo>
                  <a:pt x="22218" y="13408"/>
                  <a:pt x="22193" y="13443"/>
                  <a:pt x="22225" y="13419"/>
                </a:cubicBezTo>
                <a:cubicBezTo>
                  <a:pt x="22187" y="13443"/>
                  <a:pt x="22165" y="13475"/>
                  <a:pt x="22126" y="13494"/>
                </a:cubicBezTo>
                <a:cubicBezTo>
                  <a:pt x="22096" y="13509"/>
                  <a:pt x="22072" y="13518"/>
                  <a:pt x="22051" y="13543"/>
                </a:cubicBezTo>
                <a:cubicBezTo>
                  <a:pt x="22004" y="13598"/>
                  <a:pt x="22025" y="13504"/>
                  <a:pt x="22002" y="13618"/>
                </a:cubicBezTo>
                <a:cubicBezTo>
                  <a:pt x="21974" y="13759"/>
                  <a:pt x="22003" y="13988"/>
                  <a:pt x="22027" y="14089"/>
                </a:cubicBezTo>
                <a:cubicBezTo>
                  <a:pt x="22036" y="14064"/>
                  <a:pt x="22038" y="14012"/>
                  <a:pt x="22051" y="13990"/>
                </a:cubicBezTo>
                <a:cubicBezTo>
                  <a:pt x="22064" y="13968"/>
                  <a:pt x="22090" y="13945"/>
                  <a:pt x="22101" y="13915"/>
                </a:cubicBezTo>
                <a:cubicBezTo>
                  <a:pt x="22117" y="13873"/>
                  <a:pt x="22109" y="13874"/>
                  <a:pt x="22126" y="13841"/>
                </a:cubicBezTo>
                <a:cubicBezTo>
                  <a:pt x="22148" y="13799"/>
                  <a:pt x="22163" y="13800"/>
                  <a:pt x="22175" y="13767"/>
                </a:cubicBezTo>
                <a:cubicBezTo>
                  <a:pt x="22190" y="13727"/>
                  <a:pt x="22184" y="13682"/>
                  <a:pt x="22200" y="13643"/>
                </a:cubicBezTo>
                <a:cubicBezTo>
                  <a:pt x="22213" y="13610"/>
                  <a:pt x="22268" y="13553"/>
                  <a:pt x="22275" y="13543"/>
                </a:cubicBezTo>
                <a:cubicBezTo>
                  <a:pt x="22286" y="13526"/>
                  <a:pt x="22307" y="13489"/>
                  <a:pt x="22324" y="13469"/>
                </a:cubicBezTo>
                <a:cubicBezTo>
                  <a:pt x="22354" y="13434"/>
                  <a:pt x="22378" y="13402"/>
                  <a:pt x="22399" y="13370"/>
                </a:cubicBezTo>
                <a:cubicBezTo>
                  <a:pt x="22423" y="13333"/>
                  <a:pt x="22427" y="13327"/>
                  <a:pt x="22448" y="13295"/>
                </a:cubicBezTo>
                <a:cubicBezTo>
                  <a:pt x="22458" y="13281"/>
                  <a:pt x="22478" y="13251"/>
                  <a:pt x="22498" y="13221"/>
                </a:cubicBezTo>
                <a:cubicBezTo>
                  <a:pt x="22523" y="13183"/>
                  <a:pt x="22544" y="13143"/>
                  <a:pt x="22572" y="13097"/>
                </a:cubicBezTo>
                <a:cubicBezTo>
                  <a:pt x="22603" y="13046"/>
                  <a:pt x="22596" y="13045"/>
                  <a:pt x="22622" y="12998"/>
                </a:cubicBezTo>
                <a:cubicBezTo>
                  <a:pt x="22642" y="12961"/>
                  <a:pt x="22663" y="12940"/>
                  <a:pt x="22671" y="12898"/>
                </a:cubicBezTo>
                <a:cubicBezTo>
                  <a:pt x="22682" y="12843"/>
                  <a:pt x="22692" y="12745"/>
                  <a:pt x="22696" y="12700"/>
                </a:cubicBezTo>
                <a:cubicBezTo>
                  <a:pt x="22708" y="12560"/>
                  <a:pt x="22710" y="12412"/>
                  <a:pt x="22721" y="12278"/>
                </a:cubicBezTo>
                <a:cubicBezTo>
                  <a:pt x="22735" y="12115"/>
                  <a:pt x="22721" y="11946"/>
                  <a:pt x="22721" y="11782"/>
                </a:cubicBezTo>
                <a:cubicBezTo>
                  <a:pt x="22721" y="11766"/>
                  <a:pt x="22721" y="11644"/>
                  <a:pt x="22721" y="11708"/>
                </a:cubicBezTo>
                <a:cubicBezTo>
                  <a:pt x="22721" y="11809"/>
                  <a:pt x="22743" y="11888"/>
                  <a:pt x="22771" y="11981"/>
                </a:cubicBezTo>
                <a:cubicBezTo>
                  <a:pt x="22783" y="12020"/>
                  <a:pt x="22773" y="12032"/>
                  <a:pt x="22796" y="12055"/>
                </a:cubicBezTo>
                <a:cubicBezTo>
                  <a:pt x="22819" y="12078"/>
                  <a:pt x="22840" y="12067"/>
                  <a:pt x="22870" y="12080"/>
                </a:cubicBezTo>
                <a:cubicBezTo>
                  <a:pt x="22878" y="12084"/>
                  <a:pt x="22937" y="12097"/>
                  <a:pt x="22944" y="12105"/>
                </a:cubicBezTo>
                <a:cubicBezTo>
                  <a:pt x="22966" y="12130"/>
                  <a:pt x="22939" y="12166"/>
                  <a:pt x="22969" y="12179"/>
                </a:cubicBezTo>
                <a:cubicBezTo>
                  <a:pt x="23005" y="12195"/>
                  <a:pt x="23000" y="12211"/>
                  <a:pt x="22994" y="12154"/>
                </a:cubicBezTo>
                <a:cubicBezTo>
                  <a:pt x="22992" y="12129"/>
                  <a:pt x="22975" y="12129"/>
                  <a:pt x="22969" y="12105"/>
                </a:cubicBezTo>
                <a:cubicBezTo>
                  <a:pt x="22987" y="12128"/>
                  <a:pt x="23022" y="12170"/>
                  <a:pt x="23044" y="12204"/>
                </a:cubicBezTo>
                <a:cubicBezTo>
                  <a:pt x="23067" y="12240"/>
                  <a:pt x="23066" y="12257"/>
                  <a:pt x="23093" y="12278"/>
                </a:cubicBezTo>
                <a:cubicBezTo>
                  <a:pt x="23117" y="12296"/>
                  <a:pt x="23146" y="12286"/>
                  <a:pt x="23168" y="12303"/>
                </a:cubicBezTo>
                <a:cubicBezTo>
                  <a:pt x="23191" y="12321"/>
                  <a:pt x="23210" y="12340"/>
                  <a:pt x="23242" y="12353"/>
                </a:cubicBezTo>
                <a:cubicBezTo>
                  <a:pt x="23273" y="12365"/>
                  <a:pt x="23294" y="12353"/>
                  <a:pt x="23316" y="12378"/>
                </a:cubicBezTo>
                <a:cubicBezTo>
                  <a:pt x="23338" y="12403"/>
                  <a:pt x="23332" y="12409"/>
                  <a:pt x="23341" y="12452"/>
                </a:cubicBezTo>
                <a:cubicBezTo>
                  <a:pt x="23353" y="12512"/>
                  <a:pt x="23333" y="12554"/>
                  <a:pt x="23316" y="12601"/>
                </a:cubicBezTo>
                <a:cubicBezTo>
                  <a:pt x="23302" y="12641"/>
                  <a:pt x="23286" y="12690"/>
                  <a:pt x="23267" y="12725"/>
                </a:cubicBezTo>
                <a:cubicBezTo>
                  <a:pt x="23248" y="12759"/>
                  <a:pt x="23234" y="12791"/>
                  <a:pt x="23217" y="12824"/>
                </a:cubicBezTo>
                <a:cubicBezTo>
                  <a:pt x="23201" y="12856"/>
                  <a:pt x="23199" y="12897"/>
                  <a:pt x="23168" y="12923"/>
                </a:cubicBezTo>
                <a:cubicBezTo>
                  <a:pt x="23140" y="12946"/>
                  <a:pt x="23140" y="12931"/>
                  <a:pt x="23093" y="12948"/>
                </a:cubicBezTo>
                <a:cubicBezTo>
                  <a:pt x="23060" y="12960"/>
                  <a:pt x="23030" y="12962"/>
                  <a:pt x="22994" y="12973"/>
                </a:cubicBezTo>
                <a:cubicBezTo>
                  <a:pt x="22962" y="12983"/>
                  <a:pt x="22952" y="12988"/>
                  <a:pt x="22920" y="12998"/>
                </a:cubicBezTo>
                <a:cubicBezTo>
                  <a:pt x="22941" y="12972"/>
                  <a:pt x="22925" y="13000"/>
                  <a:pt x="22944" y="12973"/>
                </a:cubicBezTo>
                <a:cubicBezTo>
                  <a:pt x="22963" y="12947"/>
                  <a:pt x="22983" y="12920"/>
                  <a:pt x="22994" y="12898"/>
                </a:cubicBezTo>
                <a:cubicBezTo>
                  <a:pt x="23004" y="12877"/>
                  <a:pt x="23003" y="12848"/>
                  <a:pt x="23019" y="12824"/>
                </a:cubicBezTo>
                <a:cubicBezTo>
                  <a:pt x="23037" y="12797"/>
                  <a:pt x="23039" y="12789"/>
                  <a:pt x="23068" y="12774"/>
                </a:cubicBezTo>
                <a:cubicBezTo>
                  <a:pt x="23093" y="12774"/>
                  <a:pt x="23101" y="12774"/>
                  <a:pt x="23118" y="12774"/>
                </a:cubicBezTo>
                <a:cubicBezTo>
                  <a:pt x="23105" y="12764"/>
                  <a:pt x="23058" y="12740"/>
                  <a:pt x="23044" y="12725"/>
                </a:cubicBezTo>
                <a:cubicBezTo>
                  <a:pt x="23029" y="12708"/>
                  <a:pt x="22999" y="12667"/>
                  <a:pt x="22994" y="12650"/>
                </a:cubicBezTo>
                <a:cubicBezTo>
                  <a:pt x="22977" y="12591"/>
                  <a:pt x="22994" y="12556"/>
                  <a:pt x="22969" y="12502"/>
                </a:cubicBezTo>
                <a:cubicBezTo>
                  <a:pt x="22954" y="12469"/>
                  <a:pt x="22932" y="12446"/>
                  <a:pt x="22920" y="12427"/>
                </a:cubicBezTo>
                <a:cubicBezTo>
                  <a:pt x="22907" y="12405"/>
                  <a:pt x="22879" y="12375"/>
                  <a:pt x="22870" y="12353"/>
                </a:cubicBezTo>
                <a:cubicBezTo>
                  <a:pt x="22846" y="12293"/>
                  <a:pt x="22849" y="12252"/>
                  <a:pt x="22845" y="12179"/>
                </a:cubicBezTo>
                <a:cubicBezTo>
                  <a:pt x="22845" y="12154"/>
                  <a:pt x="22845" y="12130"/>
                  <a:pt x="22845" y="12105"/>
                </a:cubicBezTo>
                <a:cubicBezTo>
                  <a:pt x="22850" y="12154"/>
                  <a:pt x="22837" y="12105"/>
                  <a:pt x="22845" y="12154"/>
                </a:cubicBezTo>
                <a:cubicBezTo>
                  <a:pt x="22859" y="12240"/>
                  <a:pt x="22896" y="12319"/>
                  <a:pt x="22920" y="12402"/>
                </a:cubicBezTo>
                <a:cubicBezTo>
                  <a:pt x="22951" y="12511"/>
                  <a:pt x="22940" y="12504"/>
                  <a:pt x="23044" y="12526"/>
                </a:cubicBezTo>
                <a:cubicBezTo>
                  <a:pt x="23083" y="12534"/>
                  <a:pt x="23129" y="12524"/>
                  <a:pt x="23168" y="12526"/>
                </a:cubicBezTo>
                <a:cubicBezTo>
                  <a:pt x="23158" y="12475"/>
                  <a:pt x="23156" y="12452"/>
                  <a:pt x="23143" y="12427"/>
                </a:cubicBezTo>
                <a:cubicBezTo>
                  <a:pt x="23128" y="12398"/>
                  <a:pt x="23075" y="12365"/>
                  <a:pt x="23068" y="12353"/>
                </a:cubicBezTo>
                <a:cubicBezTo>
                  <a:pt x="23043" y="12308"/>
                  <a:pt x="23061" y="12313"/>
                  <a:pt x="23044" y="12278"/>
                </a:cubicBezTo>
                <a:cubicBezTo>
                  <a:pt x="23038" y="12287"/>
                  <a:pt x="23008" y="12362"/>
                  <a:pt x="22994" y="12378"/>
                </a:cubicBezTo>
                <a:cubicBezTo>
                  <a:pt x="22970" y="12405"/>
                  <a:pt x="22931" y="12393"/>
                  <a:pt x="22920" y="12427"/>
                </a:cubicBezTo>
                <a:cubicBezTo>
                  <a:pt x="22903" y="12478"/>
                  <a:pt x="22926" y="12532"/>
                  <a:pt x="22944" y="12551"/>
                </a:cubicBezTo>
                <a:cubicBezTo>
                  <a:pt x="22960" y="12568"/>
                  <a:pt x="23015" y="12569"/>
                  <a:pt x="23044" y="12601"/>
                </a:cubicBezTo>
                <a:cubicBezTo>
                  <a:pt x="23054" y="12612"/>
                  <a:pt x="23068" y="12660"/>
                  <a:pt x="23093" y="12675"/>
                </a:cubicBezTo>
                <a:cubicBezTo>
                  <a:pt x="23118" y="12675"/>
                  <a:pt x="23126" y="12675"/>
                  <a:pt x="23143" y="12675"/>
                </a:cubicBezTo>
                <a:cubicBezTo>
                  <a:pt x="23153" y="12631"/>
                  <a:pt x="23165" y="12634"/>
                  <a:pt x="23168" y="12601"/>
                </a:cubicBezTo>
                <a:cubicBezTo>
                  <a:pt x="23174" y="12548"/>
                  <a:pt x="23187" y="12473"/>
                  <a:pt x="23192" y="12452"/>
                </a:cubicBezTo>
                <a:cubicBezTo>
                  <a:pt x="23195" y="12462"/>
                  <a:pt x="23209" y="12511"/>
                  <a:pt x="23217" y="12551"/>
                </a:cubicBezTo>
                <a:cubicBezTo>
                  <a:pt x="23224" y="12590"/>
                  <a:pt x="23264" y="12656"/>
                  <a:pt x="23242" y="12700"/>
                </a:cubicBezTo>
                <a:cubicBezTo>
                  <a:pt x="23227" y="12730"/>
                  <a:pt x="23197" y="12709"/>
                  <a:pt x="23168" y="12725"/>
                </a:cubicBezTo>
                <a:cubicBezTo>
                  <a:pt x="23139" y="12741"/>
                  <a:pt x="23128" y="12732"/>
                  <a:pt x="23093" y="12750"/>
                </a:cubicBezTo>
                <a:cubicBezTo>
                  <a:pt x="23085" y="12754"/>
                  <a:pt x="23042" y="12783"/>
                  <a:pt x="23019" y="12799"/>
                </a:cubicBezTo>
                <a:cubicBezTo>
                  <a:pt x="22970" y="12833"/>
                  <a:pt x="22900" y="12880"/>
                  <a:pt x="22870" y="12923"/>
                </a:cubicBezTo>
                <a:cubicBezTo>
                  <a:pt x="22849" y="12953"/>
                  <a:pt x="22861" y="12957"/>
                  <a:pt x="22845" y="12998"/>
                </a:cubicBezTo>
                <a:cubicBezTo>
                  <a:pt x="22845" y="13006"/>
                  <a:pt x="22845" y="13014"/>
                  <a:pt x="22845" y="13022"/>
                </a:cubicBezTo>
                <a:cubicBezTo>
                  <a:pt x="22881" y="13004"/>
                  <a:pt x="22897" y="13015"/>
                  <a:pt x="22920" y="12998"/>
                </a:cubicBezTo>
                <a:cubicBezTo>
                  <a:pt x="22959" y="12969"/>
                  <a:pt x="22942" y="12939"/>
                  <a:pt x="22994" y="12923"/>
                </a:cubicBezTo>
                <a:cubicBezTo>
                  <a:pt x="23060" y="12902"/>
                  <a:pt x="23162" y="12931"/>
                  <a:pt x="23192" y="12948"/>
                </a:cubicBezTo>
                <a:cubicBezTo>
                  <a:pt x="23235" y="12973"/>
                  <a:pt x="23214" y="12976"/>
                  <a:pt x="23242" y="12998"/>
                </a:cubicBezTo>
                <a:cubicBezTo>
                  <a:pt x="23179" y="12994"/>
                  <a:pt x="23093" y="13017"/>
                  <a:pt x="23068" y="12973"/>
                </a:cubicBezTo>
                <a:cubicBezTo>
                  <a:pt x="23036" y="12916"/>
                  <a:pt x="23069" y="12794"/>
                  <a:pt x="23044" y="12750"/>
                </a:cubicBezTo>
                <a:cubicBezTo>
                  <a:pt x="23032" y="12729"/>
                  <a:pt x="23005" y="12704"/>
                  <a:pt x="22994" y="12675"/>
                </a:cubicBezTo>
                <a:cubicBezTo>
                  <a:pt x="22982" y="12644"/>
                  <a:pt x="22979" y="12632"/>
                  <a:pt x="22969" y="12601"/>
                </a:cubicBezTo>
                <a:cubicBezTo>
                  <a:pt x="22955" y="12559"/>
                  <a:pt x="22953" y="12559"/>
                  <a:pt x="22944" y="12526"/>
                </a:cubicBezTo>
                <a:cubicBezTo>
                  <a:pt x="22938" y="12506"/>
                  <a:pt x="22921" y="12439"/>
                  <a:pt x="22920" y="12427"/>
                </a:cubicBezTo>
                <a:cubicBezTo>
                  <a:pt x="22915" y="12383"/>
                  <a:pt x="22899" y="12342"/>
                  <a:pt x="22895" y="12328"/>
                </a:cubicBezTo>
                <a:cubicBezTo>
                  <a:pt x="22888" y="12369"/>
                  <a:pt x="22872" y="12397"/>
                  <a:pt x="22870" y="12452"/>
                </a:cubicBezTo>
                <a:cubicBezTo>
                  <a:pt x="22866" y="12585"/>
                  <a:pt x="22873" y="12755"/>
                  <a:pt x="22895" y="12849"/>
                </a:cubicBezTo>
                <a:cubicBezTo>
                  <a:pt x="22917" y="12807"/>
                  <a:pt x="22925" y="12760"/>
                  <a:pt x="22944" y="12725"/>
                </a:cubicBezTo>
                <a:cubicBezTo>
                  <a:pt x="22964" y="12688"/>
                  <a:pt x="22985" y="12668"/>
                  <a:pt x="22994" y="12626"/>
                </a:cubicBezTo>
                <a:cubicBezTo>
                  <a:pt x="23024" y="12488"/>
                  <a:pt x="23012" y="12176"/>
                  <a:pt x="22969" y="12080"/>
                </a:cubicBezTo>
                <a:cubicBezTo>
                  <a:pt x="22961" y="12072"/>
                  <a:pt x="22952" y="12063"/>
                  <a:pt x="22944" y="12055"/>
                </a:cubicBezTo>
                <a:cubicBezTo>
                  <a:pt x="22908" y="12073"/>
                  <a:pt x="22893" y="12063"/>
                  <a:pt x="22870" y="12080"/>
                </a:cubicBezTo>
                <a:cubicBezTo>
                  <a:pt x="22854" y="12092"/>
                  <a:pt x="22812" y="12119"/>
                  <a:pt x="22796" y="12154"/>
                </a:cubicBezTo>
                <a:cubicBezTo>
                  <a:pt x="22785" y="12178"/>
                  <a:pt x="22775" y="12229"/>
                  <a:pt x="22771" y="12254"/>
                </a:cubicBezTo>
                <a:cubicBezTo>
                  <a:pt x="22737" y="12492"/>
                  <a:pt x="22835" y="12805"/>
                  <a:pt x="22746" y="13022"/>
                </a:cubicBezTo>
                <a:cubicBezTo>
                  <a:pt x="22724" y="13076"/>
                  <a:pt x="22727" y="13046"/>
                  <a:pt x="22696" y="13097"/>
                </a:cubicBezTo>
                <a:cubicBezTo>
                  <a:pt x="22690" y="13107"/>
                  <a:pt x="22658" y="13163"/>
                  <a:pt x="22647" y="13171"/>
                </a:cubicBezTo>
                <a:cubicBezTo>
                  <a:pt x="22620" y="13191"/>
                  <a:pt x="22593" y="13174"/>
                  <a:pt x="22572" y="13196"/>
                </a:cubicBezTo>
                <a:cubicBezTo>
                  <a:pt x="22539" y="13230"/>
                  <a:pt x="22525" y="13256"/>
                  <a:pt x="22498" y="13271"/>
                </a:cubicBezTo>
                <a:cubicBezTo>
                  <a:pt x="22477" y="13283"/>
                  <a:pt x="22446" y="13278"/>
                  <a:pt x="22423" y="13295"/>
                </a:cubicBezTo>
                <a:cubicBezTo>
                  <a:pt x="22396" y="13314"/>
                  <a:pt x="22382" y="13334"/>
                  <a:pt x="22349" y="13370"/>
                </a:cubicBezTo>
                <a:cubicBezTo>
                  <a:pt x="22332" y="13389"/>
                  <a:pt x="22308" y="13427"/>
                  <a:pt x="22299" y="13444"/>
                </a:cubicBezTo>
                <a:cubicBezTo>
                  <a:pt x="22274" y="13491"/>
                  <a:pt x="22216" y="13615"/>
                  <a:pt x="22200" y="13667"/>
                </a:cubicBezTo>
                <a:cubicBezTo>
                  <a:pt x="22183" y="13720"/>
                  <a:pt x="22162" y="13789"/>
                  <a:pt x="22151" y="13841"/>
                </a:cubicBezTo>
                <a:cubicBezTo>
                  <a:pt x="22142" y="13887"/>
                  <a:pt x="22174" y="13928"/>
                  <a:pt x="22126" y="13940"/>
                </a:cubicBezTo>
                <a:cubicBezTo>
                  <a:pt x="22066" y="13955"/>
                  <a:pt x="22056" y="13943"/>
                  <a:pt x="22051" y="13891"/>
                </a:cubicBezTo>
                <a:cubicBezTo>
                  <a:pt x="22045" y="13834"/>
                  <a:pt x="22081" y="13793"/>
                  <a:pt x="22076" y="13742"/>
                </a:cubicBezTo>
                <a:cubicBezTo>
                  <a:pt x="22073" y="13709"/>
                  <a:pt x="22056" y="13700"/>
                  <a:pt x="22051" y="13667"/>
                </a:cubicBezTo>
                <a:cubicBezTo>
                  <a:pt x="22040" y="13690"/>
                  <a:pt x="22009" y="13708"/>
                  <a:pt x="22002" y="13742"/>
                </a:cubicBezTo>
                <a:cubicBezTo>
                  <a:pt x="21989" y="13808"/>
                  <a:pt x="21990" y="13882"/>
                  <a:pt x="21977" y="13940"/>
                </a:cubicBezTo>
                <a:cubicBezTo>
                  <a:pt x="21967" y="13984"/>
                  <a:pt x="21933" y="14025"/>
                  <a:pt x="21927" y="14039"/>
                </a:cubicBezTo>
                <a:cubicBezTo>
                  <a:pt x="21912" y="14075"/>
                  <a:pt x="21911" y="14064"/>
                  <a:pt x="21903" y="14114"/>
                </a:cubicBezTo>
                <a:cubicBezTo>
                  <a:pt x="21893" y="14180"/>
                  <a:pt x="21896" y="14281"/>
                  <a:pt x="21927" y="14312"/>
                </a:cubicBezTo>
                <a:cubicBezTo>
                  <a:pt x="21951" y="14336"/>
                  <a:pt x="21965" y="14321"/>
                  <a:pt x="22002" y="14337"/>
                </a:cubicBezTo>
                <a:cubicBezTo>
                  <a:pt x="22012" y="14341"/>
                  <a:pt x="22045" y="14352"/>
                  <a:pt x="22076" y="14362"/>
                </a:cubicBezTo>
                <a:cubicBezTo>
                  <a:pt x="22104" y="14321"/>
                  <a:pt x="22140" y="14311"/>
                  <a:pt x="22151" y="14263"/>
                </a:cubicBezTo>
                <a:cubicBezTo>
                  <a:pt x="22163" y="14211"/>
                  <a:pt x="22172" y="14107"/>
                  <a:pt x="22175" y="14064"/>
                </a:cubicBezTo>
                <a:cubicBezTo>
                  <a:pt x="22181" y="13993"/>
                  <a:pt x="22163" y="13928"/>
                  <a:pt x="22200" y="13891"/>
                </a:cubicBezTo>
                <a:cubicBezTo>
                  <a:pt x="22226" y="13865"/>
                  <a:pt x="22261" y="13852"/>
                  <a:pt x="22324" y="13841"/>
                </a:cubicBezTo>
                <a:cubicBezTo>
                  <a:pt x="22348" y="13837"/>
                  <a:pt x="22375" y="13843"/>
                  <a:pt x="22399" y="13841"/>
                </a:cubicBezTo>
                <a:cubicBezTo>
                  <a:pt x="22396" y="13894"/>
                  <a:pt x="22384" y="13922"/>
                  <a:pt x="22374" y="13965"/>
                </a:cubicBezTo>
                <a:cubicBezTo>
                  <a:pt x="22359" y="14027"/>
                  <a:pt x="22349" y="14036"/>
                  <a:pt x="22324" y="14089"/>
                </a:cubicBezTo>
                <a:cubicBezTo>
                  <a:pt x="22310" y="14119"/>
                  <a:pt x="22307" y="14165"/>
                  <a:pt x="22275" y="14188"/>
                </a:cubicBezTo>
                <a:cubicBezTo>
                  <a:pt x="22249" y="14207"/>
                  <a:pt x="22231" y="14194"/>
                  <a:pt x="22200" y="14213"/>
                </a:cubicBezTo>
                <a:cubicBezTo>
                  <a:pt x="22164" y="14235"/>
                  <a:pt x="22142" y="14253"/>
                  <a:pt x="22101" y="14263"/>
                </a:cubicBezTo>
                <a:cubicBezTo>
                  <a:pt x="22078" y="14268"/>
                  <a:pt x="22051" y="14260"/>
                  <a:pt x="22027" y="14263"/>
                </a:cubicBezTo>
                <a:cubicBezTo>
                  <a:pt x="22015" y="14232"/>
                  <a:pt x="22016" y="14218"/>
                  <a:pt x="22002" y="14188"/>
                </a:cubicBezTo>
                <a:cubicBezTo>
                  <a:pt x="21996" y="14175"/>
                  <a:pt x="21956" y="14132"/>
                  <a:pt x="21952" y="14089"/>
                </a:cubicBezTo>
                <a:cubicBezTo>
                  <a:pt x="21940" y="13972"/>
                  <a:pt x="21955" y="13843"/>
                  <a:pt x="21977" y="13742"/>
                </a:cubicBezTo>
                <a:cubicBezTo>
                  <a:pt x="21979" y="13731"/>
                  <a:pt x="21995" y="13658"/>
                  <a:pt x="22002" y="13643"/>
                </a:cubicBezTo>
                <a:cubicBezTo>
                  <a:pt x="22007" y="13633"/>
                  <a:pt x="22038" y="13576"/>
                  <a:pt x="22051" y="13543"/>
                </a:cubicBezTo>
                <a:cubicBezTo>
                  <a:pt x="22068" y="13501"/>
                  <a:pt x="22086" y="13462"/>
                  <a:pt x="22101" y="13419"/>
                </a:cubicBezTo>
                <a:cubicBezTo>
                  <a:pt x="22108" y="13398"/>
                  <a:pt x="22111" y="13370"/>
                  <a:pt x="22126" y="13345"/>
                </a:cubicBezTo>
                <a:cubicBezTo>
                  <a:pt x="22150" y="13305"/>
                  <a:pt x="22153" y="13325"/>
                  <a:pt x="22175" y="13271"/>
                </a:cubicBezTo>
                <a:cubicBezTo>
                  <a:pt x="22190" y="13233"/>
                  <a:pt x="22188" y="13211"/>
                  <a:pt x="22200" y="13171"/>
                </a:cubicBezTo>
                <a:cubicBezTo>
                  <a:pt x="22214" y="13123"/>
                  <a:pt x="22193" y="13116"/>
                  <a:pt x="22225" y="13072"/>
                </a:cubicBezTo>
                <a:cubicBezTo>
                  <a:pt x="22253" y="13034"/>
                  <a:pt x="22288" y="13027"/>
                  <a:pt x="22324" y="12998"/>
                </a:cubicBezTo>
                <a:cubicBezTo>
                  <a:pt x="22347" y="12979"/>
                  <a:pt x="22395" y="12934"/>
                  <a:pt x="22423" y="12923"/>
                </a:cubicBezTo>
                <a:cubicBezTo>
                  <a:pt x="22455" y="12910"/>
                  <a:pt x="22494" y="12917"/>
                  <a:pt x="22523" y="12898"/>
                </a:cubicBezTo>
                <a:cubicBezTo>
                  <a:pt x="22523" y="12890"/>
                  <a:pt x="22523" y="12882"/>
                  <a:pt x="22523" y="12874"/>
                </a:cubicBezTo>
                <a:cubicBezTo>
                  <a:pt x="22511" y="12928"/>
                  <a:pt x="22535" y="12952"/>
                  <a:pt x="22498" y="12998"/>
                </a:cubicBezTo>
                <a:cubicBezTo>
                  <a:pt x="22472" y="13031"/>
                  <a:pt x="22440" y="13027"/>
                  <a:pt x="22423" y="13047"/>
                </a:cubicBezTo>
                <a:cubicBezTo>
                  <a:pt x="22386" y="13091"/>
                  <a:pt x="22338" y="13144"/>
                  <a:pt x="22324" y="13196"/>
                </a:cubicBezTo>
                <a:cubicBezTo>
                  <a:pt x="22310" y="13247"/>
                  <a:pt x="22274" y="13298"/>
                  <a:pt x="22299" y="13345"/>
                </a:cubicBezTo>
                <a:cubicBezTo>
                  <a:pt x="22325" y="13394"/>
                  <a:pt x="22340" y="13338"/>
                  <a:pt x="22374" y="13370"/>
                </a:cubicBezTo>
                <a:cubicBezTo>
                  <a:pt x="22398" y="13392"/>
                  <a:pt x="22393" y="13432"/>
                  <a:pt x="22423" y="13419"/>
                </a:cubicBezTo>
                <a:cubicBezTo>
                  <a:pt x="22485" y="13393"/>
                  <a:pt x="22446" y="13391"/>
                  <a:pt x="22473" y="13345"/>
                </a:cubicBezTo>
                <a:cubicBezTo>
                  <a:pt x="22489" y="13318"/>
                  <a:pt x="22488" y="13294"/>
                  <a:pt x="22498" y="13271"/>
                </a:cubicBezTo>
                <a:cubicBezTo>
                  <a:pt x="22518" y="13311"/>
                  <a:pt x="22556" y="13277"/>
                  <a:pt x="22547" y="13320"/>
                </a:cubicBezTo>
                <a:cubicBezTo>
                  <a:pt x="22537" y="13367"/>
                  <a:pt x="22493" y="13431"/>
                  <a:pt x="22473" y="13469"/>
                </a:cubicBezTo>
                <a:cubicBezTo>
                  <a:pt x="22447" y="13517"/>
                  <a:pt x="22398" y="13544"/>
                  <a:pt x="22374" y="13593"/>
                </a:cubicBezTo>
                <a:cubicBezTo>
                  <a:pt x="22361" y="13620"/>
                  <a:pt x="22366" y="13636"/>
                  <a:pt x="22349" y="13667"/>
                </a:cubicBezTo>
                <a:cubicBezTo>
                  <a:pt x="22342" y="13679"/>
                  <a:pt x="22313" y="13711"/>
                  <a:pt x="22299" y="13742"/>
                </a:cubicBezTo>
                <a:cubicBezTo>
                  <a:pt x="22299" y="13743"/>
                  <a:pt x="22274" y="13817"/>
                  <a:pt x="22275" y="13816"/>
                </a:cubicBezTo>
                <a:cubicBezTo>
                  <a:pt x="22310" y="13795"/>
                  <a:pt x="22301" y="13760"/>
                  <a:pt x="22324" y="13742"/>
                </a:cubicBezTo>
                <a:cubicBezTo>
                  <a:pt x="22378" y="13699"/>
                  <a:pt x="22374" y="13709"/>
                  <a:pt x="22399" y="13667"/>
                </a:cubicBezTo>
                <a:cubicBezTo>
                  <a:pt x="22410" y="13648"/>
                  <a:pt x="22441" y="13591"/>
                  <a:pt x="22448" y="13543"/>
                </a:cubicBezTo>
                <a:cubicBezTo>
                  <a:pt x="22457" y="13483"/>
                  <a:pt x="22466" y="13397"/>
                  <a:pt x="22473" y="13370"/>
                </a:cubicBezTo>
                <a:cubicBezTo>
                  <a:pt x="22488" y="13307"/>
                  <a:pt x="22501" y="13303"/>
                  <a:pt x="22523" y="13271"/>
                </a:cubicBezTo>
                <a:cubicBezTo>
                  <a:pt x="22544" y="13240"/>
                  <a:pt x="22537" y="13240"/>
                  <a:pt x="22572" y="13221"/>
                </a:cubicBezTo>
                <a:cubicBezTo>
                  <a:pt x="22615" y="13198"/>
                  <a:pt x="22625" y="13208"/>
                  <a:pt x="22671" y="13196"/>
                </a:cubicBezTo>
                <a:cubicBezTo>
                  <a:pt x="22679" y="13196"/>
                  <a:pt x="22688" y="13196"/>
                  <a:pt x="22696" y="13196"/>
                </a:cubicBezTo>
                <a:cubicBezTo>
                  <a:pt x="22696" y="13281"/>
                  <a:pt x="22694" y="13368"/>
                  <a:pt x="22671" y="13419"/>
                </a:cubicBezTo>
                <a:cubicBezTo>
                  <a:pt x="22653" y="13458"/>
                  <a:pt x="22640" y="13476"/>
                  <a:pt x="22622" y="13494"/>
                </a:cubicBezTo>
                <a:cubicBezTo>
                  <a:pt x="22608" y="13508"/>
                  <a:pt x="22566" y="13526"/>
                  <a:pt x="22547" y="13543"/>
                </a:cubicBezTo>
                <a:cubicBezTo>
                  <a:pt x="22527" y="13561"/>
                  <a:pt x="22522" y="13575"/>
                  <a:pt x="22498" y="13593"/>
                </a:cubicBezTo>
                <a:cubicBezTo>
                  <a:pt x="22474" y="13611"/>
                  <a:pt x="22437" y="13631"/>
                  <a:pt x="22423" y="13643"/>
                </a:cubicBezTo>
                <a:cubicBezTo>
                  <a:pt x="22403" y="13660"/>
                  <a:pt x="22392" y="13675"/>
                  <a:pt x="22374" y="13692"/>
                </a:cubicBezTo>
                <a:cubicBezTo>
                  <a:pt x="22352" y="13713"/>
                  <a:pt x="22344" y="13716"/>
                  <a:pt x="22324" y="13742"/>
                </a:cubicBezTo>
                <a:cubicBezTo>
                  <a:pt x="22302" y="13770"/>
                  <a:pt x="22285" y="13802"/>
                  <a:pt x="22275" y="13816"/>
                </a:cubicBezTo>
                <a:cubicBezTo>
                  <a:pt x="22260" y="13837"/>
                  <a:pt x="22206" y="13892"/>
                  <a:pt x="22200" y="13915"/>
                </a:cubicBezTo>
                <a:cubicBezTo>
                  <a:pt x="22183" y="13982"/>
                  <a:pt x="22196" y="14110"/>
                  <a:pt x="22225" y="14139"/>
                </a:cubicBezTo>
                <a:cubicBezTo>
                  <a:pt x="22250" y="14139"/>
                  <a:pt x="22258" y="14139"/>
                  <a:pt x="22275" y="14139"/>
                </a:cubicBezTo>
                <a:cubicBezTo>
                  <a:pt x="22314" y="14108"/>
                  <a:pt x="22327" y="14169"/>
                  <a:pt x="22349" y="14114"/>
                </a:cubicBezTo>
                <a:cubicBezTo>
                  <a:pt x="22362" y="14082"/>
                  <a:pt x="22365" y="14020"/>
                  <a:pt x="22374" y="13990"/>
                </a:cubicBezTo>
                <a:cubicBezTo>
                  <a:pt x="22385" y="13952"/>
                  <a:pt x="22394" y="13933"/>
                  <a:pt x="22399" y="13891"/>
                </a:cubicBezTo>
                <a:cubicBezTo>
                  <a:pt x="22404" y="13850"/>
                  <a:pt x="22420" y="13797"/>
                  <a:pt x="22423" y="13767"/>
                </a:cubicBezTo>
                <a:cubicBezTo>
                  <a:pt x="22429" y="13710"/>
                  <a:pt x="22443" y="13666"/>
                  <a:pt x="22448" y="13618"/>
                </a:cubicBezTo>
                <a:cubicBezTo>
                  <a:pt x="22474" y="13387"/>
                  <a:pt x="22501" y="12925"/>
                  <a:pt x="22423" y="12750"/>
                </a:cubicBezTo>
                <a:cubicBezTo>
                  <a:pt x="22405" y="12708"/>
                  <a:pt x="22391" y="12714"/>
                  <a:pt x="22374" y="12675"/>
                </a:cubicBezTo>
                <a:cubicBezTo>
                  <a:pt x="22358" y="12639"/>
                  <a:pt x="22357" y="12652"/>
                  <a:pt x="22349" y="12601"/>
                </a:cubicBezTo>
                <a:cubicBezTo>
                  <a:pt x="22343" y="12560"/>
                  <a:pt x="22329" y="12543"/>
                  <a:pt x="22324" y="12502"/>
                </a:cubicBezTo>
                <a:cubicBezTo>
                  <a:pt x="22318" y="12452"/>
                  <a:pt x="22300" y="12342"/>
                  <a:pt x="22299" y="12328"/>
                </a:cubicBezTo>
                <a:cubicBezTo>
                  <a:pt x="22294" y="12274"/>
                  <a:pt x="22288" y="12255"/>
                  <a:pt x="22275" y="12229"/>
                </a:cubicBezTo>
                <a:cubicBezTo>
                  <a:pt x="22258" y="12196"/>
                  <a:pt x="22233" y="12190"/>
                  <a:pt x="22225" y="12154"/>
                </a:cubicBezTo>
                <a:cubicBezTo>
                  <a:pt x="22210" y="12086"/>
                  <a:pt x="22233" y="12041"/>
                  <a:pt x="22200" y="11981"/>
                </a:cubicBezTo>
                <a:cubicBezTo>
                  <a:pt x="22190" y="11963"/>
                  <a:pt x="22167" y="11905"/>
                  <a:pt x="22151" y="11881"/>
                </a:cubicBezTo>
                <a:cubicBezTo>
                  <a:pt x="22143" y="11870"/>
                  <a:pt x="22117" y="11854"/>
                  <a:pt x="22101" y="11832"/>
                </a:cubicBezTo>
                <a:cubicBezTo>
                  <a:pt x="22083" y="11807"/>
                  <a:pt x="22085" y="11788"/>
                  <a:pt x="22051" y="11757"/>
                </a:cubicBezTo>
                <a:cubicBezTo>
                  <a:pt x="22043" y="11749"/>
                  <a:pt x="21987" y="11730"/>
                  <a:pt x="21977" y="11708"/>
                </a:cubicBezTo>
                <a:cubicBezTo>
                  <a:pt x="21968" y="11687"/>
                  <a:pt x="21986" y="11654"/>
                  <a:pt x="21977" y="11633"/>
                </a:cubicBezTo>
                <a:cubicBezTo>
                  <a:pt x="21977" y="11635"/>
                  <a:pt x="21955" y="11674"/>
                  <a:pt x="21952" y="11708"/>
                </a:cubicBezTo>
                <a:cubicBezTo>
                  <a:pt x="21934" y="11881"/>
                  <a:pt x="21964" y="12072"/>
                  <a:pt x="21977" y="12229"/>
                </a:cubicBezTo>
                <a:cubicBezTo>
                  <a:pt x="21982" y="12292"/>
                  <a:pt x="21989" y="12327"/>
                  <a:pt x="22002" y="12378"/>
                </a:cubicBezTo>
                <a:cubicBezTo>
                  <a:pt x="22011" y="12415"/>
                  <a:pt x="22024" y="12468"/>
                  <a:pt x="22027" y="12502"/>
                </a:cubicBezTo>
                <a:cubicBezTo>
                  <a:pt x="22038" y="12605"/>
                  <a:pt x="22013" y="12731"/>
                  <a:pt x="22051" y="12799"/>
                </a:cubicBezTo>
                <a:cubicBezTo>
                  <a:pt x="22061" y="12817"/>
                  <a:pt x="22087" y="12822"/>
                  <a:pt x="22101" y="12849"/>
                </a:cubicBezTo>
                <a:cubicBezTo>
                  <a:pt x="22107" y="12862"/>
                  <a:pt x="22114" y="12892"/>
                  <a:pt x="22126" y="12923"/>
                </a:cubicBezTo>
                <a:cubicBezTo>
                  <a:pt x="22138" y="12953"/>
                  <a:pt x="22127" y="12986"/>
                  <a:pt x="22151" y="12998"/>
                </a:cubicBezTo>
                <a:cubicBezTo>
                  <a:pt x="22201" y="13023"/>
                  <a:pt x="22344" y="12998"/>
                  <a:pt x="22399" y="12998"/>
                </a:cubicBezTo>
                <a:cubicBezTo>
                  <a:pt x="22395" y="12909"/>
                  <a:pt x="22393" y="12834"/>
                  <a:pt x="22374" y="12750"/>
                </a:cubicBezTo>
                <a:cubicBezTo>
                  <a:pt x="22362" y="12698"/>
                  <a:pt x="22371" y="12671"/>
                  <a:pt x="22349" y="12626"/>
                </a:cubicBezTo>
                <a:cubicBezTo>
                  <a:pt x="22333" y="12593"/>
                  <a:pt x="22315" y="12577"/>
                  <a:pt x="22299" y="12526"/>
                </a:cubicBezTo>
                <a:cubicBezTo>
                  <a:pt x="22290" y="12498"/>
                  <a:pt x="22287" y="12454"/>
                  <a:pt x="22275" y="12427"/>
                </a:cubicBezTo>
                <a:cubicBezTo>
                  <a:pt x="22257" y="12388"/>
                  <a:pt x="22241" y="12379"/>
                  <a:pt x="22225" y="12353"/>
                </a:cubicBezTo>
                <a:cubicBezTo>
                  <a:pt x="22206" y="12322"/>
                  <a:pt x="22187" y="12303"/>
                  <a:pt x="22175" y="12278"/>
                </a:cubicBezTo>
                <a:cubicBezTo>
                  <a:pt x="22159" y="12245"/>
                  <a:pt x="22165" y="12248"/>
                  <a:pt x="22151" y="12204"/>
                </a:cubicBezTo>
                <a:cubicBezTo>
                  <a:pt x="22141" y="12172"/>
                  <a:pt x="22140" y="12115"/>
                  <a:pt x="22126" y="12080"/>
                </a:cubicBezTo>
                <a:cubicBezTo>
                  <a:pt x="22112" y="12046"/>
                  <a:pt x="22083" y="12041"/>
                  <a:pt x="22076" y="12005"/>
                </a:cubicBezTo>
                <a:cubicBezTo>
                  <a:pt x="22069" y="11965"/>
                  <a:pt x="22081" y="11921"/>
                  <a:pt x="22076" y="11881"/>
                </a:cubicBezTo>
                <a:cubicBezTo>
                  <a:pt x="22075" y="11888"/>
                  <a:pt x="22052" y="11936"/>
                  <a:pt x="22051" y="11981"/>
                </a:cubicBezTo>
                <a:cubicBezTo>
                  <a:pt x="22048" y="12075"/>
                  <a:pt x="22058" y="12151"/>
                  <a:pt x="22076" y="12229"/>
                </a:cubicBezTo>
                <a:cubicBezTo>
                  <a:pt x="22085" y="12267"/>
                  <a:pt x="22093" y="12292"/>
                  <a:pt x="22101" y="12328"/>
                </a:cubicBezTo>
                <a:cubicBezTo>
                  <a:pt x="22113" y="12383"/>
                  <a:pt x="22119" y="12418"/>
                  <a:pt x="22126" y="12477"/>
                </a:cubicBezTo>
                <a:cubicBezTo>
                  <a:pt x="22131" y="12519"/>
                  <a:pt x="22149" y="12567"/>
                  <a:pt x="22151" y="12576"/>
                </a:cubicBezTo>
                <a:cubicBezTo>
                  <a:pt x="22161" y="12617"/>
                  <a:pt x="22159" y="12685"/>
                  <a:pt x="22175" y="12725"/>
                </a:cubicBezTo>
                <a:cubicBezTo>
                  <a:pt x="22184" y="12748"/>
                  <a:pt x="22224" y="12796"/>
                  <a:pt x="22225" y="12799"/>
                </a:cubicBezTo>
                <a:cubicBezTo>
                  <a:pt x="22240" y="12836"/>
                  <a:pt x="22242" y="12823"/>
                  <a:pt x="22250" y="12874"/>
                </a:cubicBezTo>
                <a:cubicBezTo>
                  <a:pt x="22256" y="12915"/>
                  <a:pt x="22270" y="12932"/>
                  <a:pt x="22275" y="12973"/>
                </a:cubicBezTo>
                <a:cubicBezTo>
                  <a:pt x="22282" y="13032"/>
                  <a:pt x="22289" y="13095"/>
                  <a:pt x="22299" y="13122"/>
                </a:cubicBezTo>
                <a:cubicBezTo>
                  <a:pt x="22299" y="13114"/>
                  <a:pt x="22299" y="13105"/>
                  <a:pt x="22299" y="13097"/>
                </a:cubicBezTo>
                <a:cubicBezTo>
                  <a:pt x="22299" y="12955"/>
                  <a:pt x="22347" y="12594"/>
                  <a:pt x="22275" y="12502"/>
                </a:cubicBezTo>
                <a:cubicBezTo>
                  <a:pt x="22260" y="12483"/>
                  <a:pt x="22218" y="12487"/>
                  <a:pt x="22200" y="12452"/>
                </a:cubicBezTo>
                <a:cubicBezTo>
                  <a:pt x="22184" y="12421"/>
                  <a:pt x="22187" y="12386"/>
                  <a:pt x="22175" y="12353"/>
                </a:cubicBezTo>
                <a:cubicBezTo>
                  <a:pt x="22159" y="12311"/>
                  <a:pt x="22167" y="12310"/>
                  <a:pt x="22151" y="12278"/>
                </a:cubicBezTo>
                <a:cubicBezTo>
                  <a:pt x="22130" y="12235"/>
                  <a:pt x="22109" y="12241"/>
                  <a:pt x="22101" y="12204"/>
                </a:cubicBezTo>
                <a:cubicBezTo>
                  <a:pt x="22083" y="12124"/>
                  <a:pt x="22106" y="12054"/>
                  <a:pt x="22076" y="11981"/>
                </a:cubicBezTo>
                <a:cubicBezTo>
                  <a:pt x="22062" y="11947"/>
                  <a:pt x="22039" y="11940"/>
                  <a:pt x="22027" y="11906"/>
                </a:cubicBezTo>
                <a:cubicBezTo>
                  <a:pt x="22016" y="11874"/>
                  <a:pt x="22010" y="11839"/>
                  <a:pt x="22002" y="11807"/>
                </a:cubicBezTo>
                <a:cubicBezTo>
                  <a:pt x="22001" y="11801"/>
                  <a:pt x="21978" y="11685"/>
                  <a:pt x="21977" y="11683"/>
                </a:cubicBezTo>
                <a:cubicBezTo>
                  <a:pt x="21961" y="11655"/>
                  <a:pt x="21932" y="11647"/>
                  <a:pt x="21903" y="11609"/>
                </a:cubicBezTo>
                <a:cubicBezTo>
                  <a:pt x="21881" y="11580"/>
                  <a:pt x="21885" y="11552"/>
                  <a:pt x="21853" y="11534"/>
                </a:cubicBezTo>
                <a:cubicBezTo>
                  <a:pt x="21822" y="11517"/>
                  <a:pt x="21787" y="11521"/>
                  <a:pt x="21754" y="11509"/>
                </a:cubicBezTo>
                <a:cubicBezTo>
                  <a:pt x="21721" y="11497"/>
                  <a:pt x="21704" y="11488"/>
                  <a:pt x="21679" y="11485"/>
                </a:cubicBezTo>
                <a:cubicBezTo>
                  <a:pt x="21581" y="11473"/>
                  <a:pt x="21471" y="11490"/>
                  <a:pt x="21406" y="11460"/>
                </a:cubicBezTo>
                <a:cubicBezTo>
                  <a:pt x="21372" y="11444"/>
                  <a:pt x="21352" y="11423"/>
                  <a:pt x="21332" y="11410"/>
                </a:cubicBezTo>
                <a:cubicBezTo>
                  <a:pt x="21307" y="11394"/>
                  <a:pt x="21294" y="11378"/>
                  <a:pt x="21258" y="11361"/>
                </a:cubicBezTo>
                <a:cubicBezTo>
                  <a:pt x="21228" y="11347"/>
                  <a:pt x="21208" y="11358"/>
                  <a:pt x="21183" y="11336"/>
                </a:cubicBezTo>
                <a:cubicBezTo>
                  <a:pt x="21174" y="11328"/>
                  <a:pt x="21167" y="11293"/>
                  <a:pt x="21158" y="11286"/>
                </a:cubicBezTo>
                <a:cubicBezTo>
                  <a:pt x="21197" y="11304"/>
                  <a:pt x="21204" y="11291"/>
                  <a:pt x="21233" y="11311"/>
                </a:cubicBezTo>
                <a:cubicBezTo>
                  <a:pt x="21259" y="11329"/>
                  <a:pt x="21236" y="11338"/>
                  <a:pt x="21282" y="11361"/>
                </a:cubicBezTo>
                <a:cubicBezTo>
                  <a:pt x="21312" y="11376"/>
                  <a:pt x="21324" y="11380"/>
                  <a:pt x="21357" y="11385"/>
                </a:cubicBezTo>
                <a:cubicBezTo>
                  <a:pt x="21452" y="11400"/>
                  <a:pt x="21619" y="11403"/>
                  <a:pt x="21679" y="11410"/>
                </a:cubicBezTo>
                <a:cubicBezTo>
                  <a:pt x="21703" y="11413"/>
                  <a:pt x="21731" y="11405"/>
                  <a:pt x="21754" y="11410"/>
                </a:cubicBezTo>
                <a:cubicBezTo>
                  <a:pt x="21684" y="11401"/>
                  <a:pt x="21640" y="11411"/>
                  <a:pt x="21580" y="11385"/>
                </a:cubicBezTo>
                <a:cubicBezTo>
                  <a:pt x="21547" y="11371"/>
                  <a:pt x="21535" y="11357"/>
                  <a:pt x="21506" y="11336"/>
                </a:cubicBezTo>
                <a:cubicBezTo>
                  <a:pt x="21481" y="11318"/>
                  <a:pt x="21496" y="11297"/>
                  <a:pt x="21456" y="11286"/>
                </a:cubicBezTo>
                <a:cubicBezTo>
                  <a:pt x="21396" y="11269"/>
                  <a:pt x="21332" y="11297"/>
                  <a:pt x="21307" y="11311"/>
                </a:cubicBezTo>
                <a:cubicBezTo>
                  <a:pt x="21285" y="11324"/>
                  <a:pt x="21260" y="11360"/>
                  <a:pt x="21258" y="11361"/>
                </a:cubicBezTo>
                <a:cubicBezTo>
                  <a:pt x="21224" y="11378"/>
                  <a:pt x="21228" y="11371"/>
                  <a:pt x="21183" y="11385"/>
                </a:cubicBezTo>
                <a:cubicBezTo>
                  <a:pt x="21175" y="11385"/>
                  <a:pt x="21166" y="11385"/>
                  <a:pt x="21158" y="11385"/>
                </a:cubicBezTo>
              </a:path>
              <a:path w="6153" h="7170">
                <a:moveTo>
                  <a:pt x="22027" y="13494"/>
                </a:moveTo>
                <a:cubicBezTo>
                  <a:pt x="22027" y="13613"/>
                  <a:pt x="22037" y="13737"/>
                  <a:pt x="22002" y="13841"/>
                </a:cubicBezTo>
                <a:cubicBezTo>
                  <a:pt x="21990" y="13878"/>
                  <a:pt x="21977" y="13897"/>
                  <a:pt x="21977" y="13940"/>
                </a:cubicBezTo>
                <a:cubicBezTo>
                  <a:pt x="21934" y="13940"/>
                  <a:pt x="21939" y="13930"/>
                  <a:pt x="21927" y="13965"/>
                </a:cubicBezTo>
                <a:cubicBezTo>
                  <a:pt x="21911" y="13970"/>
                  <a:pt x="21867" y="13989"/>
                  <a:pt x="21853" y="14015"/>
                </a:cubicBezTo>
                <a:cubicBezTo>
                  <a:pt x="21853" y="14039"/>
                  <a:pt x="21853" y="14047"/>
                  <a:pt x="21828" y="14039"/>
                </a:cubicBezTo>
                <a:cubicBezTo>
                  <a:pt x="21863" y="14028"/>
                  <a:pt x="21853" y="13996"/>
                  <a:pt x="21903" y="13990"/>
                </a:cubicBezTo>
                <a:cubicBezTo>
                  <a:pt x="21943" y="13985"/>
                  <a:pt x="21956" y="13965"/>
                  <a:pt x="22002" y="13965"/>
                </a:cubicBezTo>
              </a:path>
              <a:path w="6153" h="7170">
                <a:moveTo>
                  <a:pt x="22597" y="13395"/>
                </a:moveTo>
                <a:cubicBezTo>
                  <a:pt x="22597" y="13370"/>
                  <a:pt x="22597" y="13345"/>
                  <a:pt x="22597" y="13320"/>
                </a:cubicBezTo>
                <a:cubicBezTo>
                  <a:pt x="22637" y="13307"/>
                  <a:pt x="22607" y="13308"/>
                  <a:pt x="22647" y="13295"/>
                </a:cubicBezTo>
                <a:cubicBezTo>
                  <a:pt x="22647" y="13271"/>
                  <a:pt x="22647" y="13262"/>
                  <a:pt x="22647" y="13246"/>
                </a:cubicBezTo>
              </a:path>
              <a:path w="6153" h="7170">
                <a:moveTo>
                  <a:pt x="20687" y="15230"/>
                </a:moveTo>
                <a:cubicBezTo>
                  <a:pt x="20677" y="15230"/>
                  <a:pt x="20660" y="15202"/>
                  <a:pt x="20687" y="15180"/>
                </a:cubicBezTo>
                <a:cubicBezTo>
                  <a:pt x="20715" y="15157"/>
                  <a:pt x="20722" y="15094"/>
                  <a:pt x="20687" y="15106"/>
                </a:cubicBezTo>
                <a:cubicBezTo>
                  <a:pt x="20684" y="15107"/>
                  <a:pt x="20687" y="15174"/>
                  <a:pt x="20687" y="15180"/>
                </a:cubicBezTo>
              </a:path>
              <a:path w="6153" h="7170">
                <a:moveTo>
                  <a:pt x="20836" y="15776"/>
                </a:moveTo>
                <a:cubicBezTo>
                  <a:pt x="20844" y="15776"/>
                  <a:pt x="20853" y="15776"/>
                  <a:pt x="20861" y="15776"/>
                </a:cubicBezTo>
                <a:cubicBezTo>
                  <a:pt x="20873" y="15811"/>
                  <a:pt x="20868" y="15801"/>
                  <a:pt x="20910" y="15801"/>
                </a:cubicBezTo>
                <a:cubicBezTo>
                  <a:pt x="20910" y="15825"/>
                  <a:pt x="20910" y="15833"/>
                  <a:pt x="20935" y="15825"/>
                </a:cubicBezTo>
              </a:path>
              <a:path w="6153" h="7170">
                <a:moveTo>
                  <a:pt x="18430" y="8855"/>
                </a:moveTo>
                <a:cubicBezTo>
                  <a:pt x="18430" y="8880"/>
                  <a:pt x="18430" y="8888"/>
                  <a:pt x="18455" y="8880"/>
                </a:cubicBezTo>
                <a:cubicBezTo>
                  <a:pt x="18422" y="8880"/>
                  <a:pt x="18368" y="8897"/>
                  <a:pt x="18430" y="8905"/>
                </a:cubicBezTo>
                <a:cubicBezTo>
                  <a:pt x="18457" y="8908"/>
                  <a:pt x="18476" y="8877"/>
                  <a:pt x="18479" y="8855"/>
                </a:cubicBezTo>
                <a:cubicBezTo>
                  <a:pt x="18479" y="8830"/>
                  <a:pt x="18479" y="8822"/>
                  <a:pt x="18455" y="8830"/>
                </a:cubicBezTo>
                <a:cubicBezTo>
                  <a:pt x="18417" y="8843"/>
                  <a:pt x="18430" y="8860"/>
                  <a:pt x="18430" y="8905"/>
                </a:cubicBezTo>
              </a:path>
            </a:pathLst>
          </a:custGeom>
          <a:noFill/>
          <a:ln cap="rnd" w="349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84920" y="2044800"/>
            <a:ext cx="625320" cy="947520"/>
          </a:xfrm>
          <a:custGeom>
            <a:avLst/>
            <a:gdLst/>
            <a:ahLst/>
            <a:rect l="l" t="t" r="r" b="b"/>
            <a:pathLst>
              <a:path w="1738" h="2631">
                <a:moveTo>
                  <a:pt x="17835" y="8310"/>
                </a:moveTo>
                <a:cubicBezTo>
                  <a:pt x="17840" y="8246"/>
                  <a:pt x="17841" y="8198"/>
                  <a:pt x="17859" y="8136"/>
                </a:cubicBezTo>
                <a:cubicBezTo>
                  <a:pt x="17883" y="8054"/>
                  <a:pt x="17912" y="7972"/>
                  <a:pt x="17959" y="7888"/>
                </a:cubicBezTo>
                <a:cubicBezTo>
                  <a:pt x="17989" y="7835"/>
                  <a:pt x="18071" y="7695"/>
                  <a:pt x="18083" y="7640"/>
                </a:cubicBezTo>
                <a:cubicBezTo>
                  <a:pt x="18099" y="7571"/>
                  <a:pt x="18090" y="7446"/>
                  <a:pt x="18058" y="7392"/>
                </a:cubicBezTo>
                <a:cubicBezTo>
                  <a:pt x="18037" y="7357"/>
                  <a:pt x="18001" y="7331"/>
                  <a:pt x="17983" y="7317"/>
                </a:cubicBezTo>
                <a:cubicBezTo>
                  <a:pt x="17958" y="7297"/>
                  <a:pt x="17924" y="7254"/>
                  <a:pt x="17909" y="7243"/>
                </a:cubicBezTo>
                <a:cubicBezTo>
                  <a:pt x="17883" y="7225"/>
                  <a:pt x="17856" y="7193"/>
                  <a:pt x="17835" y="7169"/>
                </a:cubicBezTo>
                <a:cubicBezTo>
                  <a:pt x="17807" y="7138"/>
                  <a:pt x="17780" y="7094"/>
                  <a:pt x="17760" y="7069"/>
                </a:cubicBezTo>
                <a:cubicBezTo>
                  <a:pt x="17749" y="7055"/>
                  <a:pt x="17703" y="7028"/>
                  <a:pt x="17686" y="6995"/>
                </a:cubicBezTo>
                <a:cubicBezTo>
                  <a:pt x="17674" y="6972"/>
                  <a:pt x="17675" y="6916"/>
                  <a:pt x="17661" y="6896"/>
                </a:cubicBezTo>
                <a:cubicBezTo>
                  <a:pt x="17654" y="6886"/>
                  <a:pt x="17598" y="6858"/>
                  <a:pt x="17587" y="6846"/>
                </a:cubicBezTo>
                <a:cubicBezTo>
                  <a:pt x="17569" y="6825"/>
                  <a:pt x="17525" y="6788"/>
                  <a:pt x="17512" y="6772"/>
                </a:cubicBezTo>
                <a:cubicBezTo>
                  <a:pt x="17489" y="6745"/>
                  <a:pt x="17466" y="6680"/>
                  <a:pt x="17438" y="6648"/>
                </a:cubicBezTo>
                <a:cubicBezTo>
                  <a:pt x="17394" y="6597"/>
                  <a:pt x="17373" y="6602"/>
                  <a:pt x="17338" y="6573"/>
                </a:cubicBezTo>
                <a:cubicBezTo>
                  <a:pt x="17326" y="6563"/>
                  <a:pt x="17304" y="6513"/>
                  <a:pt x="17289" y="6499"/>
                </a:cubicBezTo>
                <a:cubicBezTo>
                  <a:pt x="17264" y="6475"/>
                  <a:pt x="17226" y="6438"/>
                  <a:pt x="17214" y="6424"/>
                </a:cubicBezTo>
                <a:cubicBezTo>
                  <a:pt x="17183" y="6385"/>
                  <a:pt x="17162" y="6347"/>
                  <a:pt x="17140" y="6325"/>
                </a:cubicBezTo>
                <a:cubicBezTo>
                  <a:pt x="17108" y="6293"/>
                  <a:pt x="17105" y="6279"/>
                  <a:pt x="17090" y="6251"/>
                </a:cubicBezTo>
                <a:cubicBezTo>
                  <a:pt x="17076" y="6225"/>
                  <a:pt x="17038" y="6195"/>
                  <a:pt x="17016" y="6176"/>
                </a:cubicBezTo>
                <a:cubicBezTo>
                  <a:pt x="16974" y="6139"/>
                  <a:pt x="16960" y="6120"/>
                  <a:pt x="16917" y="6077"/>
                </a:cubicBezTo>
                <a:cubicBezTo>
                  <a:pt x="16881" y="6041"/>
                  <a:pt x="16872" y="6013"/>
                  <a:pt x="16842" y="5978"/>
                </a:cubicBezTo>
                <a:cubicBezTo>
                  <a:pt x="16830" y="5963"/>
                  <a:pt x="16780" y="5937"/>
                  <a:pt x="16768" y="5928"/>
                </a:cubicBezTo>
                <a:cubicBezTo>
                  <a:pt x="16751" y="5916"/>
                  <a:pt x="16685" y="5873"/>
                  <a:pt x="16644" y="5854"/>
                </a:cubicBezTo>
                <a:cubicBezTo>
                  <a:pt x="16605" y="5836"/>
                  <a:pt x="16591" y="5822"/>
                  <a:pt x="16570" y="5804"/>
                </a:cubicBezTo>
                <a:cubicBezTo>
                  <a:pt x="16561" y="5796"/>
                  <a:pt x="16505" y="5767"/>
                  <a:pt x="16495" y="5755"/>
                </a:cubicBezTo>
                <a:cubicBezTo>
                  <a:pt x="16482" y="5738"/>
                  <a:pt x="16459" y="5692"/>
                  <a:pt x="16421" y="5680"/>
                </a:cubicBezTo>
                <a:cubicBezTo>
                  <a:pt x="16398" y="5673"/>
                  <a:pt x="16369" y="5684"/>
                  <a:pt x="16346" y="5680"/>
                </a:cubicBezTo>
                <a:cubicBezTo>
                  <a:pt x="16346" y="5794"/>
                  <a:pt x="16346" y="5896"/>
                  <a:pt x="16371" y="6003"/>
                </a:cubicBezTo>
                <a:cubicBezTo>
                  <a:pt x="16381" y="6047"/>
                  <a:pt x="16412" y="6058"/>
                  <a:pt x="16421" y="6102"/>
                </a:cubicBezTo>
                <a:cubicBezTo>
                  <a:pt x="16436" y="6175"/>
                  <a:pt x="16441" y="6179"/>
                  <a:pt x="16470" y="6251"/>
                </a:cubicBezTo>
                <a:cubicBezTo>
                  <a:pt x="16502" y="6331"/>
                  <a:pt x="16538" y="6372"/>
                  <a:pt x="16570" y="6449"/>
                </a:cubicBezTo>
                <a:cubicBezTo>
                  <a:pt x="16585" y="6485"/>
                  <a:pt x="16588" y="6473"/>
                  <a:pt x="16594" y="6524"/>
                </a:cubicBezTo>
                <a:cubicBezTo>
                  <a:pt x="16610" y="6659"/>
                  <a:pt x="16607" y="6823"/>
                  <a:pt x="16619" y="6945"/>
                </a:cubicBezTo>
                <a:cubicBezTo>
                  <a:pt x="16633" y="7091"/>
                  <a:pt x="16598" y="7285"/>
                  <a:pt x="16644" y="7392"/>
                </a:cubicBezTo>
                <a:cubicBezTo>
                  <a:pt x="16648" y="7400"/>
                  <a:pt x="16661" y="7459"/>
                  <a:pt x="16669" y="7466"/>
                </a:cubicBezTo>
                <a:cubicBezTo>
                  <a:pt x="16692" y="7487"/>
                  <a:pt x="16698" y="7490"/>
                  <a:pt x="16718" y="7516"/>
                </a:cubicBezTo>
                <a:cubicBezTo>
                  <a:pt x="16757" y="7566"/>
                  <a:pt x="16754" y="7571"/>
                  <a:pt x="16793" y="7615"/>
                </a:cubicBezTo>
                <a:cubicBezTo>
                  <a:pt x="16831" y="7658"/>
                  <a:pt x="16881" y="7673"/>
                  <a:pt x="16917" y="7714"/>
                </a:cubicBezTo>
                <a:cubicBezTo>
                  <a:pt x="16946" y="7747"/>
                  <a:pt x="16939" y="7748"/>
                  <a:pt x="16991" y="7789"/>
                </a:cubicBezTo>
                <a:cubicBezTo>
                  <a:pt x="17046" y="7832"/>
                  <a:pt x="17031" y="7826"/>
                  <a:pt x="17066" y="7888"/>
                </a:cubicBezTo>
                <a:cubicBezTo>
                  <a:pt x="17073" y="7900"/>
                  <a:pt x="17103" y="7950"/>
                  <a:pt x="17115" y="7962"/>
                </a:cubicBezTo>
                <a:cubicBezTo>
                  <a:pt x="17128" y="7974"/>
                  <a:pt x="17153" y="8002"/>
                  <a:pt x="17165" y="8012"/>
                </a:cubicBezTo>
                <a:cubicBezTo>
                  <a:pt x="17182" y="8026"/>
                  <a:pt x="17203" y="8044"/>
                  <a:pt x="17239" y="8062"/>
                </a:cubicBezTo>
                <a:cubicBezTo>
                  <a:pt x="17271" y="8078"/>
                  <a:pt x="17272" y="8070"/>
                  <a:pt x="17314" y="8086"/>
                </a:cubicBezTo>
                <a:cubicBezTo>
                  <a:pt x="17355" y="8101"/>
                  <a:pt x="17363" y="8109"/>
                  <a:pt x="17413" y="8111"/>
                </a:cubicBezTo>
                <a:cubicBezTo>
                  <a:pt x="17553" y="8116"/>
                  <a:pt x="17695" y="8111"/>
                  <a:pt x="17835" y="8111"/>
                </a:cubicBezTo>
                <a:cubicBezTo>
                  <a:pt x="17835" y="7961"/>
                  <a:pt x="17883" y="7748"/>
                  <a:pt x="17810" y="7615"/>
                </a:cubicBezTo>
                <a:cubicBezTo>
                  <a:pt x="17800" y="7596"/>
                  <a:pt x="17778" y="7562"/>
                  <a:pt x="17760" y="7541"/>
                </a:cubicBezTo>
                <a:cubicBezTo>
                  <a:pt x="17757" y="7538"/>
                  <a:pt x="17717" y="7471"/>
                  <a:pt x="17711" y="7466"/>
                </a:cubicBezTo>
                <a:cubicBezTo>
                  <a:pt x="17680" y="7441"/>
                  <a:pt x="17665" y="7455"/>
                  <a:pt x="17636" y="7417"/>
                </a:cubicBezTo>
                <a:cubicBezTo>
                  <a:pt x="17613" y="7387"/>
                  <a:pt x="17585" y="7365"/>
                  <a:pt x="17562" y="7317"/>
                </a:cubicBezTo>
                <a:cubicBezTo>
                  <a:pt x="17557" y="7307"/>
                  <a:pt x="17523" y="7256"/>
                  <a:pt x="17512" y="7243"/>
                </a:cubicBezTo>
                <a:cubicBezTo>
                  <a:pt x="17507" y="7237"/>
                  <a:pt x="17443" y="7201"/>
                  <a:pt x="17438" y="7193"/>
                </a:cubicBezTo>
                <a:cubicBezTo>
                  <a:pt x="17420" y="7162"/>
                  <a:pt x="17413" y="7131"/>
                  <a:pt x="17388" y="7094"/>
                </a:cubicBezTo>
                <a:cubicBezTo>
                  <a:pt x="17371" y="7068"/>
                  <a:pt x="17382" y="7050"/>
                  <a:pt x="17363" y="7020"/>
                </a:cubicBezTo>
                <a:cubicBezTo>
                  <a:pt x="17337" y="6977"/>
                  <a:pt x="17315" y="6935"/>
                  <a:pt x="17289" y="6896"/>
                </a:cubicBezTo>
                <a:cubicBezTo>
                  <a:pt x="17270" y="6868"/>
                  <a:pt x="17231" y="6815"/>
                  <a:pt x="17214" y="6796"/>
                </a:cubicBezTo>
                <a:cubicBezTo>
                  <a:pt x="17188" y="6765"/>
                  <a:pt x="17156" y="6739"/>
                  <a:pt x="17140" y="6722"/>
                </a:cubicBezTo>
                <a:cubicBezTo>
                  <a:pt x="17119" y="6699"/>
                  <a:pt x="17097" y="6648"/>
                  <a:pt x="17066" y="6623"/>
                </a:cubicBezTo>
                <a:cubicBezTo>
                  <a:pt x="17046" y="6607"/>
                  <a:pt x="17012" y="6616"/>
                  <a:pt x="16991" y="6598"/>
                </a:cubicBezTo>
                <a:cubicBezTo>
                  <a:pt x="16960" y="6572"/>
                  <a:pt x="16962" y="6539"/>
                  <a:pt x="16942" y="6524"/>
                </a:cubicBezTo>
                <a:cubicBezTo>
                  <a:pt x="16912" y="6502"/>
                  <a:pt x="16912" y="6508"/>
                  <a:pt x="16892" y="6474"/>
                </a:cubicBezTo>
                <a:cubicBezTo>
                  <a:pt x="16878" y="6450"/>
                  <a:pt x="16852" y="6440"/>
                  <a:pt x="16842" y="6424"/>
                </a:cubicBezTo>
                <a:cubicBezTo>
                  <a:pt x="16833" y="6408"/>
                  <a:pt x="16795" y="6353"/>
                  <a:pt x="16793" y="6350"/>
                </a:cubicBezTo>
                <a:cubicBezTo>
                  <a:pt x="16779" y="6324"/>
                  <a:pt x="16749" y="6286"/>
                  <a:pt x="16743" y="6276"/>
                </a:cubicBezTo>
                <a:cubicBezTo>
                  <a:pt x="16731" y="6255"/>
                  <a:pt x="16731" y="6192"/>
                  <a:pt x="16718" y="6176"/>
                </a:cubicBezTo>
                <a:cubicBezTo>
                  <a:pt x="16710" y="6176"/>
                  <a:pt x="16702" y="6176"/>
                  <a:pt x="16694" y="6176"/>
                </a:cubicBezTo>
                <a:cubicBezTo>
                  <a:pt x="16694" y="6336"/>
                  <a:pt x="16702" y="6503"/>
                  <a:pt x="16718" y="6648"/>
                </a:cubicBezTo>
                <a:cubicBezTo>
                  <a:pt x="16722" y="6685"/>
                  <a:pt x="16715" y="6748"/>
                  <a:pt x="16743" y="6772"/>
                </a:cubicBezTo>
                <a:cubicBezTo>
                  <a:pt x="16757" y="6785"/>
                  <a:pt x="16823" y="6782"/>
                  <a:pt x="16842" y="6796"/>
                </a:cubicBezTo>
                <a:cubicBezTo>
                  <a:pt x="16888" y="6829"/>
                  <a:pt x="16907" y="6919"/>
                  <a:pt x="16942" y="6945"/>
                </a:cubicBezTo>
                <a:cubicBezTo>
                  <a:pt x="16976" y="6970"/>
                  <a:pt x="16996" y="6977"/>
                  <a:pt x="17016" y="6995"/>
                </a:cubicBezTo>
                <a:cubicBezTo>
                  <a:pt x="17067" y="7040"/>
                  <a:pt x="17039" y="7019"/>
                  <a:pt x="17066" y="7069"/>
                </a:cubicBezTo>
                <a:cubicBezTo>
                  <a:pt x="17067" y="7071"/>
                  <a:pt x="17115" y="7143"/>
                  <a:pt x="17115" y="7144"/>
                </a:cubicBezTo>
                <a:cubicBezTo>
                  <a:pt x="17129" y="7185"/>
                  <a:pt x="17126" y="7227"/>
                  <a:pt x="17140" y="7268"/>
                </a:cubicBezTo>
                <a:cubicBezTo>
                  <a:pt x="17153" y="7305"/>
                  <a:pt x="17175" y="7331"/>
                  <a:pt x="17190" y="7367"/>
                </a:cubicBezTo>
                <a:cubicBezTo>
                  <a:pt x="17203" y="7398"/>
                  <a:pt x="17201" y="7435"/>
                  <a:pt x="17214" y="7466"/>
                </a:cubicBezTo>
                <a:cubicBezTo>
                  <a:pt x="17226" y="7495"/>
                  <a:pt x="17222" y="7506"/>
                  <a:pt x="17239" y="7541"/>
                </a:cubicBezTo>
                <a:cubicBezTo>
                  <a:pt x="17254" y="7572"/>
                  <a:pt x="17247" y="7576"/>
                  <a:pt x="17264" y="7615"/>
                </a:cubicBezTo>
                <a:cubicBezTo>
                  <a:pt x="17279" y="7652"/>
                  <a:pt x="17279" y="7660"/>
                  <a:pt x="17289" y="7689"/>
                </a:cubicBezTo>
                <a:cubicBezTo>
                  <a:pt x="17302" y="7728"/>
                  <a:pt x="17317" y="7752"/>
                  <a:pt x="17338" y="7789"/>
                </a:cubicBezTo>
                <a:cubicBezTo>
                  <a:pt x="17357" y="7822"/>
                  <a:pt x="17343" y="7836"/>
                  <a:pt x="17363" y="7863"/>
                </a:cubicBezTo>
                <a:cubicBezTo>
                  <a:pt x="17374" y="7878"/>
                  <a:pt x="17415" y="7897"/>
                  <a:pt x="17438" y="7913"/>
                </a:cubicBezTo>
                <a:cubicBezTo>
                  <a:pt x="17457" y="7926"/>
                  <a:pt x="17481" y="7955"/>
                  <a:pt x="17512" y="7962"/>
                </a:cubicBezTo>
                <a:cubicBezTo>
                  <a:pt x="17537" y="7962"/>
                  <a:pt x="17545" y="7962"/>
                  <a:pt x="17562" y="796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3040" y="2867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62" y="7962"/>
                </a:moveTo>
                <a:lnTo>
                  <a:pt x="17562" y="7962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8120" y="982800"/>
            <a:ext cx="1090800" cy="1812960"/>
          </a:xfrm>
          <a:custGeom>
            <a:avLst/>
            <a:gdLst/>
            <a:ahLst/>
            <a:rect l="l" t="t" r="r" b="b"/>
            <a:pathLst>
              <a:path w="3028" h="5036">
                <a:moveTo>
                  <a:pt x="17438" y="6102"/>
                </a:moveTo>
                <a:cubicBezTo>
                  <a:pt x="17438" y="5802"/>
                  <a:pt x="17457" y="5507"/>
                  <a:pt x="17462" y="5209"/>
                </a:cubicBezTo>
                <a:cubicBezTo>
                  <a:pt x="17465" y="5000"/>
                  <a:pt x="17451" y="4793"/>
                  <a:pt x="17487" y="4589"/>
                </a:cubicBezTo>
                <a:cubicBezTo>
                  <a:pt x="17499" y="4520"/>
                  <a:pt x="17523" y="4456"/>
                  <a:pt x="17537" y="4390"/>
                </a:cubicBezTo>
                <a:cubicBezTo>
                  <a:pt x="17547" y="4347"/>
                  <a:pt x="17556" y="4273"/>
                  <a:pt x="17587" y="4242"/>
                </a:cubicBezTo>
                <a:cubicBezTo>
                  <a:pt x="17636" y="4192"/>
                  <a:pt x="17701" y="4216"/>
                  <a:pt x="17760" y="4192"/>
                </a:cubicBezTo>
                <a:cubicBezTo>
                  <a:pt x="17818" y="4169"/>
                  <a:pt x="17875" y="4118"/>
                  <a:pt x="17934" y="4093"/>
                </a:cubicBezTo>
                <a:cubicBezTo>
                  <a:pt x="18020" y="4056"/>
                  <a:pt x="18098" y="4020"/>
                  <a:pt x="18182" y="3969"/>
                </a:cubicBezTo>
                <a:cubicBezTo>
                  <a:pt x="18258" y="3923"/>
                  <a:pt x="18311" y="3872"/>
                  <a:pt x="18380" y="3820"/>
                </a:cubicBezTo>
                <a:cubicBezTo>
                  <a:pt x="18457" y="3762"/>
                  <a:pt x="18517" y="3677"/>
                  <a:pt x="18579" y="3621"/>
                </a:cubicBezTo>
                <a:cubicBezTo>
                  <a:pt x="18595" y="3607"/>
                  <a:pt x="18643" y="3581"/>
                  <a:pt x="18653" y="3572"/>
                </a:cubicBezTo>
                <a:cubicBezTo>
                  <a:pt x="18689" y="3542"/>
                  <a:pt x="18718" y="3518"/>
                  <a:pt x="18752" y="3497"/>
                </a:cubicBezTo>
                <a:cubicBezTo>
                  <a:pt x="18804" y="3466"/>
                  <a:pt x="18851" y="3455"/>
                  <a:pt x="18901" y="3423"/>
                </a:cubicBezTo>
                <a:cubicBezTo>
                  <a:pt x="18949" y="3392"/>
                  <a:pt x="19018" y="3291"/>
                  <a:pt x="19050" y="3274"/>
                </a:cubicBezTo>
                <a:cubicBezTo>
                  <a:pt x="19095" y="3250"/>
                  <a:pt x="19115" y="3247"/>
                  <a:pt x="19174" y="3249"/>
                </a:cubicBezTo>
                <a:cubicBezTo>
                  <a:pt x="19231" y="3251"/>
                  <a:pt x="19274" y="3267"/>
                  <a:pt x="19323" y="3299"/>
                </a:cubicBezTo>
                <a:cubicBezTo>
                  <a:pt x="19369" y="3329"/>
                  <a:pt x="19423" y="3392"/>
                  <a:pt x="19472" y="3423"/>
                </a:cubicBezTo>
                <a:cubicBezTo>
                  <a:pt x="19509" y="3446"/>
                  <a:pt x="19539" y="3455"/>
                  <a:pt x="19571" y="3473"/>
                </a:cubicBezTo>
                <a:cubicBezTo>
                  <a:pt x="19564" y="3406"/>
                  <a:pt x="19525" y="3301"/>
                  <a:pt x="19521" y="3274"/>
                </a:cubicBezTo>
                <a:cubicBezTo>
                  <a:pt x="19505" y="3165"/>
                  <a:pt x="19518" y="3026"/>
                  <a:pt x="19496" y="2952"/>
                </a:cubicBezTo>
                <a:cubicBezTo>
                  <a:pt x="19489" y="2929"/>
                  <a:pt x="19464" y="2859"/>
                  <a:pt x="19447" y="2828"/>
                </a:cubicBezTo>
                <a:cubicBezTo>
                  <a:pt x="19446" y="2826"/>
                  <a:pt x="19405" y="2757"/>
                  <a:pt x="19397" y="2753"/>
                </a:cubicBezTo>
                <a:cubicBezTo>
                  <a:pt x="19365" y="2736"/>
                  <a:pt x="19336" y="2735"/>
                  <a:pt x="19298" y="2729"/>
                </a:cubicBezTo>
                <a:cubicBezTo>
                  <a:pt x="19258" y="2723"/>
                  <a:pt x="19228" y="2752"/>
                  <a:pt x="19224" y="2753"/>
                </a:cubicBezTo>
                <a:cubicBezTo>
                  <a:pt x="19194" y="2758"/>
                  <a:pt x="19188" y="2765"/>
                  <a:pt x="19149" y="2778"/>
                </a:cubicBezTo>
                <a:cubicBezTo>
                  <a:pt x="19106" y="2792"/>
                  <a:pt x="19105" y="2781"/>
                  <a:pt x="19075" y="2803"/>
                </a:cubicBezTo>
                <a:cubicBezTo>
                  <a:pt x="19049" y="2821"/>
                  <a:pt x="19032" y="2820"/>
                  <a:pt x="19000" y="2853"/>
                </a:cubicBezTo>
                <a:cubicBezTo>
                  <a:pt x="18965" y="2889"/>
                  <a:pt x="18946" y="2958"/>
                  <a:pt x="18926" y="2977"/>
                </a:cubicBezTo>
                <a:cubicBezTo>
                  <a:pt x="18916" y="2987"/>
                  <a:pt x="18885" y="3020"/>
                  <a:pt x="18876" y="3026"/>
                </a:cubicBezTo>
                <a:cubicBezTo>
                  <a:pt x="18849" y="3045"/>
                  <a:pt x="18823" y="3028"/>
                  <a:pt x="18802" y="3051"/>
                </a:cubicBezTo>
                <a:cubicBezTo>
                  <a:pt x="18788" y="3066"/>
                  <a:pt x="18751" y="3092"/>
                  <a:pt x="18728" y="3125"/>
                </a:cubicBezTo>
                <a:cubicBezTo>
                  <a:pt x="18707" y="3155"/>
                  <a:pt x="18692" y="3166"/>
                  <a:pt x="18678" y="3200"/>
                </a:cubicBezTo>
                <a:cubicBezTo>
                  <a:pt x="18659" y="3244"/>
                  <a:pt x="18664" y="3326"/>
                  <a:pt x="18653" y="3373"/>
                </a:cubicBezTo>
                <a:cubicBezTo>
                  <a:pt x="18645" y="3407"/>
                  <a:pt x="18604" y="3495"/>
                  <a:pt x="18604" y="3497"/>
                </a:cubicBezTo>
                <a:cubicBezTo>
                  <a:pt x="18590" y="3579"/>
                  <a:pt x="18621" y="3654"/>
                  <a:pt x="18628" y="3721"/>
                </a:cubicBezTo>
                <a:cubicBezTo>
                  <a:pt x="18645" y="3714"/>
                  <a:pt x="18702" y="3671"/>
                  <a:pt x="18703" y="3671"/>
                </a:cubicBezTo>
                <a:cubicBezTo>
                  <a:pt x="18799" y="3654"/>
                  <a:pt x="18889" y="3678"/>
                  <a:pt x="18976" y="3646"/>
                </a:cubicBezTo>
                <a:cubicBezTo>
                  <a:pt x="19018" y="3630"/>
                  <a:pt x="19018" y="3639"/>
                  <a:pt x="19050" y="3621"/>
                </a:cubicBezTo>
                <a:cubicBezTo>
                  <a:pt x="19072" y="3608"/>
                  <a:pt x="19079" y="3559"/>
                  <a:pt x="19124" y="3547"/>
                </a:cubicBezTo>
                <a:cubicBezTo>
                  <a:pt x="19253" y="3512"/>
                  <a:pt x="19521" y="3529"/>
                  <a:pt x="19621" y="3522"/>
                </a:cubicBezTo>
                <a:cubicBezTo>
                  <a:pt x="19662" y="3519"/>
                  <a:pt x="19704" y="3524"/>
                  <a:pt x="19745" y="3522"/>
                </a:cubicBezTo>
                <a:cubicBezTo>
                  <a:pt x="19734" y="3530"/>
                  <a:pt x="19704" y="3593"/>
                  <a:pt x="19695" y="3597"/>
                </a:cubicBezTo>
                <a:cubicBezTo>
                  <a:pt x="19669" y="3610"/>
                  <a:pt x="19596" y="3641"/>
                  <a:pt x="19571" y="3646"/>
                </a:cubicBezTo>
                <a:cubicBezTo>
                  <a:pt x="19424" y="3677"/>
                  <a:pt x="19165" y="3663"/>
                  <a:pt x="19050" y="3671"/>
                </a:cubicBezTo>
                <a:cubicBezTo>
                  <a:pt x="18979" y="3676"/>
                  <a:pt x="18935" y="3663"/>
                  <a:pt x="18876" y="3696"/>
                </a:cubicBezTo>
                <a:cubicBezTo>
                  <a:pt x="18841" y="3715"/>
                  <a:pt x="18822" y="3753"/>
                  <a:pt x="18802" y="3770"/>
                </a:cubicBezTo>
                <a:cubicBezTo>
                  <a:pt x="18769" y="3799"/>
                  <a:pt x="18749" y="3800"/>
                  <a:pt x="18728" y="3820"/>
                </a:cubicBezTo>
                <a:cubicBezTo>
                  <a:pt x="18718" y="3830"/>
                  <a:pt x="18692" y="3883"/>
                  <a:pt x="18678" y="3894"/>
                </a:cubicBezTo>
                <a:cubicBezTo>
                  <a:pt x="18659" y="3910"/>
                  <a:pt x="18622" y="3908"/>
                  <a:pt x="18604" y="3919"/>
                </a:cubicBezTo>
                <a:cubicBezTo>
                  <a:pt x="18591" y="3927"/>
                  <a:pt x="18554" y="3955"/>
                  <a:pt x="18529" y="3969"/>
                </a:cubicBezTo>
                <a:cubicBezTo>
                  <a:pt x="18512" y="3978"/>
                  <a:pt x="18456" y="4018"/>
                  <a:pt x="18455" y="4018"/>
                </a:cubicBezTo>
                <a:cubicBezTo>
                  <a:pt x="18408" y="4037"/>
                  <a:pt x="18400" y="4018"/>
                  <a:pt x="18355" y="4043"/>
                </a:cubicBezTo>
                <a:cubicBezTo>
                  <a:pt x="18329" y="4057"/>
                  <a:pt x="18288" y="4115"/>
                  <a:pt x="18281" y="4118"/>
                </a:cubicBezTo>
                <a:cubicBezTo>
                  <a:pt x="18249" y="4132"/>
                  <a:pt x="18232" y="4137"/>
                  <a:pt x="18207" y="4142"/>
                </a:cubicBezTo>
                <a:cubicBezTo>
                  <a:pt x="18101" y="4164"/>
                  <a:pt x="18030" y="4158"/>
                  <a:pt x="17934" y="4192"/>
                </a:cubicBezTo>
                <a:cubicBezTo>
                  <a:pt x="17895" y="4206"/>
                  <a:pt x="17817" y="4218"/>
                  <a:pt x="17785" y="4242"/>
                </a:cubicBezTo>
                <a:cubicBezTo>
                  <a:pt x="17774" y="4250"/>
                  <a:pt x="17747" y="4279"/>
                  <a:pt x="17735" y="4291"/>
                </a:cubicBezTo>
                <a:cubicBezTo>
                  <a:pt x="17725" y="4300"/>
                  <a:pt x="17665" y="4384"/>
                  <a:pt x="17661" y="4390"/>
                </a:cubicBezTo>
                <a:cubicBezTo>
                  <a:pt x="17633" y="4427"/>
                  <a:pt x="17636" y="4416"/>
                  <a:pt x="17611" y="4465"/>
                </a:cubicBezTo>
                <a:cubicBezTo>
                  <a:pt x="17593" y="4502"/>
                  <a:pt x="17570" y="4522"/>
                  <a:pt x="17562" y="4564"/>
                </a:cubicBezTo>
                <a:cubicBezTo>
                  <a:pt x="17514" y="4818"/>
                  <a:pt x="17601" y="5109"/>
                  <a:pt x="17636" y="5358"/>
                </a:cubicBezTo>
                <a:cubicBezTo>
                  <a:pt x="17686" y="5714"/>
                  <a:pt x="17661" y="6088"/>
                  <a:pt x="17661" y="6449"/>
                </a:cubicBezTo>
                <a:cubicBezTo>
                  <a:pt x="17643" y="6423"/>
                  <a:pt x="17606" y="6458"/>
                  <a:pt x="17587" y="6400"/>
                </a:cubicBezTo>
                <a:cubicBezTo>
                  <a:pt x="17570" y="6347"/>
                  <a:pt x="17553" y="6298"/>
                  <a:pt x="17537" y="6251"/>
                </a:cubicBezTo>
                <a:cubicBezTo>
                  <a:pt x="17525" y="6218"/>
                  <a:pt x="17514" y="6170"/>
                  <a:pt x="17512" y="6152"/>
                </a:cubicBezTo>
                <a:cubicBezTo>
                  <a:pt x="17495" y="6007"/>
                  <a:pt x="17512" y="5851"/>
                  <a:pt x="17512" y="5705"/>
                </a:cubicBezTo>
                <a:cubicBezTo>
                  <a:pt x="17512" y="5813"/>
                  <a:pt x="17503" y="5871"/>
                  <a:pt x="17512" y="5978"/>
                </a:cubicBezTo>
                <a:cubicBezTo>
                  <a:pt x="17542" y="6326"/>
                  <a:pt x="17567" y="6700"/>
                  <a:pt x="17512" y="7045"/>
                </a:cubicBezTo>
                <a:cubicBezTo>
                  <a:pt x="17484" y="7224"/>
                  <a:pt x="17491" y="7424"/>
                  <a:pt x="17462" y="7590"/>
                </a:cubicBezTo>
                <a:cubicBezTo>
                  <a:pt x="17453" y="7644"/>
                  <a:pt x="17452" y="7655"/>
                  <a:pt x="17438" y="7689"/>
                </a:cubicBezTo>
                <a:cubicBezTo>
                  <a:pt x="17417" y="7738"/>
                  <a:pt x="17459" y="7739"/>
                  <a:pt x="17413" y="7764"/>
                </a:cubicBezTo>
                <a:cubicBezTo>
                  <a:pt x="17354" y="7796"/>
                  <a:pt x="17213" y="7757"/>
                  <a:pt x="17165" y="7739"/>
                </a:cubicBezTo>
                <a:cubicBezTo>
                  <a:pt x="17134" y="7727"/>
                  <a:pt x="17141" y="7710"/>
                  <a:pt x="17115" y="7689"/>
                </a:cubicBezTo>
                <a:cubicBezTo>
                  <a:pt x="17101" y="7677"/>
                  <a:pt x="17058" y="7657"/>
                  <a:pt x="17041" y="7640"/>
                </a:cubicBezTo>
                <a:cubicBezTo>
                  <a:pt x="17022" y="7621"/>
                  <a:pt x="17035" y="7586"/>
                  <a:pt x="17016" y="7565"/>
                </a:cubicBezTo>
                <a:cubicBezTo>
                  <a:pt x="17003" y="7551"/>
                  <a:pt x="16954" y="7526"/>
                  <a:pt x="16942" y="7516"/>
                </a:cubicBezTo>
                <a:cubicBezTo>
                  <a:pt x="16925" y="7502"/>
                  <a:pt x="16883" y="7483"/>
                  <a:pt x="16867" y="7466"/>
                </a:cubicBezTo>
                <a:cubicBezTo>
                  <a:pt x="16841" y="7439"/>
                  <a:pt x="16838" y="7389"/>
                  <a:pt x="16818" y="7367"/>
                </a:cubicBezTo>
                <a:cubicBezTo>
                  <a:pt x="16803" y="7351"/>
                  <a:pt x="16758" y="7323"/>
                  <a:pt x="16743" y="7293"/>
                </a:cubicBezTo>
                <a:cubicBezTo>
                  <a:pt x="16726" y="7261"/>
                  <a:pt x="16735" y="7259"/>
                  <a:pt x="16718" y="7218"/>
                </a:cubicBezTo>
                <a:cubicBezTo>
                  <a:pt x="16718" y="7210"/>
                  <a:pt x="16718" y="7201"/>
                  <a:pt x="16718" y="7193"/>
                </a:cubicBezTo>
                <a:cubicBezTo>
                  <a:pt x="16748" y="7212"/>
                  <a:pt x="16768" y="7199"/>
                  <a:pt x="16793" y="7218"/>
                </a:cubicBezTo>
                <a:cubicBezTo>
                  <a:pt x="16809" y="7231"/>
                  <a:pt x="16836" y="7251"/>
                  <a:pt x="16867" y="7268"/>
                </a:cubicBezTo>
                <a:cubicBezTo>
                  <a:pt x="16935" y="7307"/>
                  <a:pt x="16991" y="7339"/>
                  <a:pt x="17066" y="7367"/>
                </a:cubicBezTo>
                <a:cubicBezTo>
                  <a:pt x="17121" y="7387"/>
                  <a:pt x="17187" y="7426"/>
                  <a:pt x="17239" y="7441"/>
                </a:cubicBezTo>
                <a:cubicBezTo>
                  <a:pt x="17289" y="7455"/>
                  <a:pt x="17338" y="7450"/>
                  <a:pt x="17388" y="7466"/>
                </a:cubicBezTo>
                <a:cubicBezTo>
                  <a:pt x="17425" y="7477"/>
                  <a:pt x="17445" y="7505"/>
                  <a:pt x="17487" y="7516"/>
                </a:cubicBezTo>
                <a:cubicBezTo>
                  <a:pt x="17537" y="7529"/>
                  <a:pt x="17598" y="7503"/>
                  <a:pt x="17636" y="7541"/>
                </a:cubicBezTo>
                <a:cubicBezTo>
                  <a:pt x="17661" y="7565"/>
                  <a:pt x="17630" y="7591"/>
                  <a:pt x="17661" y="7615"/>
                </a:cubicBezTo>
                <a:cubicBezTo>
                  <a:pt x="17670" y="7622"/>
                  <a:pt x="17722" y="7629"/>
                  <a:pt x="17735" y="7640"/>
                </a:cubicBezTo>
                <a:cubicBezTo>
                  <a:pt x="17745" y="7649"/>
                  <a:pt x="17750" y="7681"/>
                  <a:pt x="17760" y="768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75200" y="982800"/>
            <a:ext cx="1224000" cy="2143080"/>
          </a:xfrm>
          <a:custGeom>
            <a:avLst/>
            <a:gdLst/>
            <a:ahLst/>
            <a:rect l="l" t="t" r="r" b="b"/>
            <a:pathLst>
              <a:path w="3400" h="5954">
                <a:moveTo>
                  <a:pt x="18182" y="8483"/>
                </a:moveTo>
                <a:cubicBezTo>
                  <a:pt x="18141" y="8483"/>
                  <a:pt x="18165" y="8520"/>
                  <a:pt x="18107" y="8508"/>
                </a:cubicBezTo>
                <a:cubicBezTo>
                  <a:pt x="18052" y="8497"/>
                  <a:pt x="18038" y="8504"/>
                  <a:pt x="18008" y="8483"/>
                </a:cubicBezTo>
                <a:cubicBezTo>
                  <a:pt x="17973" y="8459"/>
                  <a:pt x="17979" y="8427"/>
                  <a:pt x="17959" y="8409"/>
                </a:cubicBezTo>
                <a:cubicBezTo>
                  <a:pt x="17927" y="8380"/>
                  <a:pt x="17896" y="8364"/>
                  <a:pt x="17859" y="8334"/>
                </a:cubicBezTo>
                <a:cubicBezTo>
                  <a:pt x="17845" y="8322"/>
                  <a:pt x="17820" y="8269"/>
                  <a:pt x="17810" y="8260"/>
                </a:cubicBezTo>
                <a:cubicBezTo>
                  <a:pt x="17789" y="8241"/>
                  <a:pt x="17751" y="8257"/>
                  <a:pt x="17735" y="8235"/>
                </a:cubicBezTo>
                <a:cubicBezTo>
                  <a:pt x="17722" y="8218"/>
                  <a:pt x="17691" y="8168"/>
                  <a:pt x="17686" y="8161"/>
                </a:cubicBezTo>
                <a:cubicBezTo>
                  <a:pt x="17667" y="8132"/>
                  <a:pt x="17679" y="8107"/>
                  <a:pt x="17661" y="8086"/>
                </a:cubicBezTo>
                <a:cubicBezTo>
                  <a:pt x="17650" y="8073"/>
                  <a:pt x="17617" y="8047"/>
                  <a:pt x="17611" y="8037"/>
                </a:cubicBezTo>
                <a:cubicBezTo>
                  <a:pt x="17596" y="8012"/>
                  <a:pt x="17605" y="7990"/>
                  <a:pt x="17587" y="7962"/>
                </a:cubicBezTo>
                <a:cubicBezTo>
                  <a:pt x="17586" y="7960"/>
                  <a:pt x="17545" y="7897"/>
                  <a:pt x="17537" y="7888"/>
                </a:cubicBezTo>
                <a:cubicBezTo>
                  <a:pt x="17526" y="7876"/>
                  <a:pt x="17477" y="7853"/>
                  <a:pt x="17462" y="7838"/>
                </a:cubicBezTo>
                <a:cubicBezTo>
                  <a:pt x="17445" y="7820"/>
                  <a:pt x="17403" y="7776"/>
                  <a:pt x="17388" y="7764"/>
                </a:cubicBezTo>
                <a:cubicBezTo>
                  <a:pt x="17356" y="7738"/>
                  <a:pt x="17332" y="7733"/>
                  <a:pt x="17314" y="7714"/>
                </a:cubicBezTo>
                <a:cubicBezTo>
                  <a:pt x="17299" y="7698"/>
                  <a:pt x="17305" y="7655"/>
                  <a:pt x="17289" y="7640"/>
                </a:cubicBezTo>
                <a:cubicBezTo>
                  <a:pt x="17263" y="7615"/>
                  <a:pt x="17242" y="7601"/>
                  <a:pt x="17214" y="7565"/>
                </a:cubicBezTo>
                <a:cubicBezTo>
                  <a:pt x="17193" y="7538"/>
                  <a:pt x="17174" y="7526"/>
                  <a:pt x="17140" y="7491"/>
                </a:cubicBezTo>
                <a:cubicBezTo>
                  <a:pt x="17122" y="7473"/>
                  <a:pt x="17081" y="7458"/>
                  <a:pt x="17066" y="7441"/>
                </a:cubicBezTo>
                <a:cubicBezTo>
                  <a:pt x="17049" y="7422"/>
                  <a:pt x="17030" y="7380"/>
                  <a:pt x="17016" y="7367"/>
                </a:cubicBezTo>
                <a:cubicBezTo>
                  <a:pt x="17002" y="7354"/>
                  <a:pt x="16955" y="7356"/>
                  <a:pt x="16942" y="7342"/>
                </a:cubicBezTo>
                <a:cubicBezTo>
                  <a:pt x="16928" y="7327"/>
                  <a:pt x="16902" y="7305"/>
                  <a:pt x="16892" y="7293"/>
                </a:cubicBezTo>
                <a:cubicBezTo>
                  <a:pt x="16863" y="7258"/>
                  <a:pt x="16864" y="7237"/>
                  <a:pt x="16842" y="7193"/>
                </a:cubicBezTo>
                <a:cubicBezTo>
                  <a:pt x="16837" y="7184"/>
                  <a:pt x="16805" y="7145"/>
                  <a:pt x="16793" y="7119"/>
                </a:cubicBezTo>
                <a:cubicBezTo>
                  <a:pt x="16769" y="7068"/>
                  <a:pt x="16729" y="7051"/>
                  <a:pt x="16718" y="6995"/>
                </a:cubicBezTo>
                <a:cubicBezTo>
                  <a:pt x="16676" y="6784"/>
                  <a:pt x="16778" y="6538"/>
                  <a:pt x="16669" y="6350"/>
                </a:cubicBezTo>
                <a:cubicBezTo>
                  <a:pt x="16654" y="6323"/>
                  <a:pt x="16617" y="6315"/>
                  <a:pt x="16594" y="6276"/>
                </a:cubicBezTo>
                <a:cubicBezTo>
                  <a:pt x="16584" y="6259"/>
                  <a:pt x="16559" y="6224"/>
                  <a:pt x="16545" y="6201"/>
                </a:cubicBezTo>
                <a:cubicBezTo>
                  <a:pt x="16526" y="6169"/>
                  <a:pt x="16535" y="6171"/>
                  <a:pt x="16520" y="6127"/>
                </a:cubicBezTo>
                <a:cubicBezTo>
                  <a:pt x="16517" y="6119"/>
                  <a:pt x="16502" y="6087"/>
                  <a:pt x="16495" y="6052"/>
                </a:cubicBezTo>
                <a:cubicBezTo>
                  <a:pt x="16484" y="6001"/>
                  <a:pt x="16478" y="5950"/>
                  <a:pt x="16470" y="5904"/>
                </a:cubicBezTo>
                <a:cubicBezTo>
                  <a:pt x="16462" y="5862"/>
                  <a:pt x="16451" y="5818"/>
                  <a:pt x="16446" y="5804"/>
                </a:cubicBezTo>
                <a:cubicBezTo>
                  <a:pt x="16433" y="5767"/>
                  <a:pt x="16445" y="5751"/>
                  <a:pt x="16421" y="5730"/>
                </a:cubicBezTo>
                <a:cubicBezTo>
                  <a:pt x="16396" y="5709"/>
                  <a:pt x="16378" y="5724"/>
                  <a:pt x="16346" y="5705"/>
                </a:cubicBezTo>
                <a:cubicBezTo>
                  <a:pt x="16338" y="5705"/>
                  <a:pt x="16329" y="5705"/>
                  <a:pt x="16321" y="5705"/>
                </a:cubicBezTo>
                <a:cubicBezTo>
                  <a:pt x="16332" y="5741"/>
                  <a:pt x="16333" y="5770"/>
                  <a:pt x="16346" y="5804"/>
                </a:cubicBezTo>
                <a:cubicBezTo>
                  <a:pt x="16365" y="5851"/>
                  <a:pt x="16383" y="5898"/>
                  <a:pt x="16396" y="5953"/>
                </a:cubicBezTo>
                <a:cubicBezTo>
                  <a:pt x="16409" y="6008"/>
                  <a:pt x="16409" y="6044"/>
                  <a:pt x="16421" y="6102"/>
                </a:cubicBezTo>
                <a:cubicBezTo>
                  <a:pt x="16428" y="6134"/>
                  <a:pt x="16443" y="6143"/>
                  <a:pt x="16446" y="6176"/>
                </a:cubicBezTo>
                <a:cubicBezTo>
                  <a:pt x="16465" y="6368"/>
                  <a:pt x="16441" y="6559"/>
                  <a:pt x="16470" y="6747"/>
                </a:cubicBezTo>
                <a:cubicBezTo>
                  <a:pt x="16480" y="6812"/>
                  <a:pt x="16482" y="6795"/>
                  <a:pt x="16495" y="6871"/>
                </a:cubicBezTo>
                <a:cubicBezTo>
                  <a:pt x="16502" y="6911"/>
                  <a:pt x="16517" y="6926"/>
                  <a:pt x="16520" y="6970"/>
                </a:cubicBezTo>
                <a:cubicBezTo>
                  <a:pt x="16528" y="7081"/>
                  <a:pt x="16508" y="7219"/>
                  <a:pt x="16545" y="7293"/>
                </a:cubicBezTo>
                <a:cubicBezTo>
                  <a:pt x="16561" y="7325"/>
                  <a:pt x="16592" y="7323"/>
                  <a:pt x="16619" y="7342"/>
                </a:cubicBezTo>
                <a:cubicBezTo>
                  <a:pt x="16626" y="7347"/>
                  <a:pt x="16681" y="7356"/>
                  <a:pt x="16694" y="7367"/>
                </a:cubicBezTo>
                <a:cubicBezTo>
                  <a:pt x="16712" y="7382"/>
                  <a:pt x="16721" y="7400"/>
                  <a:pt x="16743" y="7417"/>
                </a:cubicBezTo>
                <a:cubicBezTo>
                  <a:pt x="16751" y="7423"/>
                  <a:pt x="16785" y="7458"/>
                  <a:pt x="16793" y="7466"/>
                </a:cubicBezTo>
                <a:cubicBezTo>
                  <a:pt x="16810" y="7484"/>
                  <a:pt x="16823" y="7510"/>
                  <a:pt x="16842" y="7541"/>
                </a:cubicBezTo>
                <a:cubicBezTo>
                  <a:pt x="16850" y="7554"/>
                  <a:pt x="16855" y="7604"/>
                  <a:pt x="16867" y="7615"/>
                </a:cubicBezTo>
                <a:cubicBezTo>
                  <a:pt x="16883" y="7631"/>
                  <a:pt x="16927" y="7624"/>
                  <a:pt x="16942" y="7640"/>
                </a:cubicBezTo>
                <a:cubicBezTo>
                  <a:pt x="16966" y="7665"/>
                  <a:pt x="16982" y="7678"/>
                  <a:pt x="17016" y="7714"/>
                </a:cubicBezTo>
                <a:cubicBezTo>
                  <a:pt x="17046" y="7746"/>
                  <a:pt x="17046" y="7768"/>
                  <a:pt x="17066" y="7789"/>
                </a:cubicBezTo>
                <a:cubicBezTo>
                  <a:pt x="17085" y="7808"/>
                  <a:pt x="17097" y="7816"/>
                  <a:pt x="17115" y="7838"/>
                </a:cubicBezTo>
                <a:cubicBezTo>
                  <a:pt x="17123" y="7848"/>
                  <a:pt x="17150" y="7896"/>
                  <a:pt x="17165" y="7913"/>
                </a:cubicBezTo>
                <a:cubicBezTo>
                  <a:pt x="17173" y="7923"/>
                  <a:pt x="17204" y="7982"/>
                  <a:pt x="17214" y="7987"/>
                </a:cubicBezTo>
                <a:cubicBezTo>
                  <a:pt x="17247" y="8005"/>
                  <a:pt x="17276" y="8003"/>
                  <a:pt x="17314" y="8012"/>
                </a:cubicBezTo>
                <a:cubicBezTo>
                  <a:pt x="17387" y="8029"/>
                  <a:pt x="17486" y="8012"/>
                  <a:pt x="17562" y="8012"/>
                </a:cubicBezTo>
                <a:cubicBezTo>
                  <a:pt x="17542" y="7932"/>
                  <a:pt x="17556" y="7870"/>
                  <a:pt x="17512" y="7789"/>
                </a:cubicBezTo>
                <a:cubicBezTo>
                  <a:pt x="17509" y="7783"/>
                  <a:pt x="17415" y="7617"/>
                  <a:pt x="17413" y="7615"/>
                </a:cubicBezTo>
                <a:cubicBezTo>
                  <a:pt x="17379" y="7582"/>
                  <a:pt x="17273" y="7513"/>
                  <a:pt x="17239" y="7491"/>
                </a:cubicBezTo>
                <a:cubicBezTo>
                  <a:pt x="17194" y="7462"/>
                  <a:pt x="17144" y="7454"/>
                  <a:pt x="17090" y="7417"/>
                </a:cubicBezTo>
                <a:cubicBezTo>
                  <a:pt x="17064" y="7399"/>
                  <a:pt x="17052" y="7371"/>
                  <a:pt x="17016" y="7342"/>
                </a:cubicBezTo>
                <a:cubicBezTo>
                  <a:pt x="16956" y="7294"/>
                  <a:pt x="16898" y="7268"/>
                  <a:pt x="16842" y="7218"/>
                </a:cubicBezTo>
                <a:cubicBezTo>
                  <a:pt x="16811" y="7190"/>
                  <a:pt x="16786" y="7160"/>
                  <a:pt x="16768" y="7144"/>
                </a:cubicBezTo>
                <a:cubicBezTo>
                  <a:pt x="16732" y="7112"/>
                  <a:pt x="16730" y="7097"/>
                  <a:pt x="16694" y="7069"/>
                </a:cubicBezTo>
                <a:cubicBezTo>
                  <a:pt x="16660" y="7042"/>
                  <a:pt x="16640" y="7039"/>
                  <a:pt x="16619" y="7020"/>
                </a:cubicBezTo>
                <a:cubicBezTo>
                  <a:pt x="16607" y="7009"/>
                  <a:pt x="16552" y="6982"/>
                  <a:pt x="16545" y="6970"/>
                </a:cubicBezTo>
                <a:cubicBezTo>
                  <a:pt x="16527" y="6938"/>
                  <a:pt x="16537" y="6936"/>
                  <a:pt x="16520" y="6896"/>
                </a:cubicBezTo>
                <a:cubicBezTo>
                  <a:pt x="16520" y="6871"/>
                  <a:pt x="16520" y="6863"/>
                  <a:pt x="16520" y="6846"/>
                </a:cubicBezTo>
                <a:cubicBezTo>
                  <a:pt x="16618" y="6875"/>
                  <a:pt x="16689" y="6876"/>
                  <a:pt x="16793" y="6921"/>
                </a:cubicBezTo>
                <a:cubicBezTo>
                  <a:pt x="16939" y="6984"/>
                  <a:pt x="17096" y="7033"/>
                  <a:pt x="17239" y="7094"/>
                </a:cubicBezTo>
                <a:cubicBezTo>
                  <a:pt x="17372" y="7151"/>
                  <a:pt x="17501" y="7179"/>
                  <a:pt x="17636" y="7218"/>
                </a:cubicBezTo>
                <a:cubicBezTo>
                  <a:pt x="17699" y="7236"/>
                  <a:pt x="17774" y="7248"/>
                  <a:pt x="17835" y="7268"/>
                </a:cubicBezTo>
                <a:cubicBezTo>
                  <a:pt x="17869" y="7279"/>
                  <a:pt x="17907" y="7289"/>
                  <a:pt x="17934" y="7317"/>
                </a:cubicBezTo>
                <a:cubicBezTo>
                  <a:pt x="17967" y="7352"/>
                  <a:pt x="17964" y="7338"/>
                  <a:pt x="17983" y="7392"/>
                </a:cubicBezTo>
                <a:cubicBezTo>
                  <a:pt x="18002" y="7448"/>
                  <a:pt x="17998" y="7563"/>
                  <a:pt x="18008" y="7615"/>
                </a:cubicBezTo>
                <a:cubicBezTo>
                  <a:pt x="18016" y="7658"/>
                  <a:pt x="18028" y="7699"/>
                  <a:pt x="18033" y="7714"/>
                </a:cubicBezTo>
                <a:cubicBezTo>
                  <a:pt x="18043" y="7741"/>
                  <a:pt x="18081" y="7784"/>
                  <a:pt x="18083" y="7789"/>
                </a:cubicBezTo>
                <a:cubicBezTo>
                  <a:pt x="18083" y="7813"/>
                  <a:pt x="18083" y="7822"/>
                  <a:pt x="18083" y="7838"/>
                </a:cubicBezTo>
                <a:cubicBezTo>
                  <a:pt x="18020" y="7829"/>
                  <a:pt x="17939" y="7822"/>
                  <a:pt x="17909" y="7813"/>
                </a:cubicBezTo>
                <a:cubicBezTo>
                  <a:pt x="17856" y="7797"/>
                  <a:pt x="17838" y="7793"/>
                  <a:pt x="17810" y="7764"/>
                </a:cubicBezTo>
                <a:cubicBezTo>
                  <a:pt x="17789" y="7742"/>
                  <a:pt x="17770" y="7722"/>
                  <a:pt x="17760" y="7689"/>
                </a:cubicBezTo>
                <a:cubicBezTo>
                  <a:pt x="17735" y="7609"/>
                  <a:pt x="17779" y="7486"/>
                  <a:pt x="17810" y="7417"/>
                </a:cubicBezTo>
                <a:cubicBezTo>
                  <a:pt x="17824" y="7387"/>
                  <a:pt x="17872" y="7423"/>
                  <a:pt x="17884" y="7392"/>
                </a:cubicBezTo>
                <a:cubicBezTo>
                  <a:pt x="17899" y="7356"/>
                  <a:pt x="17902" y="7346"/>
                  <a:pt x="17909" y="7317"/>
                </a:cubicBezTo>
                <a:cubicBezTo>
                  <a:pt x="17928" y="7241"/>
                  <a:pt x="17900" y="7132"/>
                  <a:pt x="17884" y="7094"/>
                </a:cubicBezTo>
                <a:cubicBezTo>
                  <a:pt x="17866" y="7052"/>
                  <a:pt x="17829" y="7045"/>
                  <a:pt x="17810" y="7020"/>
                </a:cubicBezTo>
                <a:cubicBezTo>
                  <a:pt x="17792" y="6996"/>
                  <a:pt x="17765" y="6959"/>
                  <a:pt x="17735" y="6921"/>
                </a:cubicBezTo>
                <a:cubicBezTo>
                  <a:pt x="17719" y="6901"/>
                  <a:pt x="17701" y="6856"/>
                  <a:pt x="17686" y="6846"/>
                </a:cubicBezTo>
                <a:cubicBezTo>
                  <a:pt x="17640" y="6814"/>
                  <a:pt x="17595" y="6818"/>
                  <a:pt x="17562" y="6796"/>
                </a:cubicBezTo>
                <a:cubicBezTo>
                  <a:pt x="17521" y="6769"/>
                  <a:pt x="17531" y="6751"/>
                  <a:pt x="17487" y="6722"/>
                </a:cubicBezTo>
                <a:cubicBezTo>
                  <a:pt x="17462" y="6706"/>
                  <a:pt x="17427" y="6691"/>
                  <a:pt x="17388" y="6672"/>
                </a:cubicBezTo>
                <a:cubicBezTo>
                  <a:pt x="17308" y="6632"/>
                  <a:pt x="17233" y="6597"/>
                  <a:pt x="17165" y="6548"/>
                </a:cubicBezTo>
                <a:cubicBezTo>
                  <a:pt x="17123" y="6517"/>
                  <a:pt x="17060" y="6475"/>
                  <a:pt x="17041" y="6449"/>
                </a:cubicBezTo>
                <a:cubicBezTo>
                  <a:pt x="17016" y="6417"/>
                  <a:pt x="17020" y="6392"/>
                  <a:pt x="16991" y="6350"/>
                </a:cubicBezTo>
                <a:cubicBezTo>
                  <a:pt x="16966" y="6314"/>
                  <a:pt x="16942" y="6265"/>
                  <a:pt x="16917" y="6226"/>
                </a:cubicBezTo>
                <a:cubicBezTo>
                  <a:pt x="16909" y="6213"/>
                  <a:pt x="16860" y="6183"/>
                  <a:pt x="16842" y="6152"/>
                </a:cubicBezTo>
                <a:cubicBezTo>
                  <a:pt x="16804" y="6086"/>
                  <a:pt x="16814" y="6041"/>
                  <a:pt x="16768" y="5978"/>
                </a:cubicBezTo>
                <a:cubicBezTo>
                  <a:pt x="16746" y="5948"/>
                  <a:pt x="16729" y="5945"/>
                  <a:pt x="16694" y="5904"/>
                </a:cubicBezTo>
                <a:cubicBezTo>
                  <a:pt x="16667" y="5873"/>
                  <a:pt x="16641" y="5852"/>
                  <a:pt x="16619" y="5829"/>
                </a:cubicBezTo>
                <a:cubicBezTo>
                  <a:pt x="16583" y="5792"/>
                  <a:pt x="16554" y="5751"/>
                  <a:pt x="16520" y="5730"/>
                </a:cubicBezTo>
                <a:cubicBezTo>
                  <a:pt x="16495" y="5730"/>
                  <a:pt x="16487" y="5730"/>
                  <a:pt x="16470" y="5730"/>
                </a:cubicBezTo>
                <a:cubicBezTo>
                  <a:pt x="16491" y="5767"/>
                  <a:pt x="16473" y="5803"/>
                  <a:pt x="16495" y="5829"/>
                </a:cubicBezTo>
                <a:cubicBezTo>
                  <a:pt x="16558" y="5903"/>
                  <a:pt x="16649" y="6003"/>
                  <a:pt x="16694" y="6052"/>
                </a:cubicBezTo>
                <a:cubicBezTo>
                  <a:pt x="16726" y="6087"/>
                  <a:pt x="16769" y="6122"/>
                  <a:pt x="16793" y="6152"/>
                </a:cubicBezTo>
                <a:cubicBezTo>
                  <a:pt x="16828" y="6196"/>
                  <a:pt x="16855" y="6222"/>
                  <a:pt x="16892" y="6276"/>
                </a:cubicBezTo>
                <a:cubicBezTo>
                  <a:pt x="16938" y="6344"/>
                  <a:pt x="16925" y="6344"/>
                  <a:pt x="16966" y="6400"/>
                </a:cubicBezTo>
                <a:cubicBezTo>
                  <a:pt x="16974" y="6408"/>
                  <a:pt x="16983" y="6416"/>
                  <a:pt x="16991" y="6424"/>
                </a:cubicBezTo>
                <a:cubicBezTo>
                  <a:pt x="17021" y="6412"/>
                  <a:pt x="17053" y="6407"/>
                  <a:pt x="17066" y="6400"/>
                </a:cubicBezTo>
                <a:cubicBezTo>
                  <a:pt x="17089" y="6388"/>
                  <a:pt x="17076" y="6359"/>
                  <a:pt x="17115" y="6350"/>
                </a:cubicBezTo>
                <a:cubicBezTo>
                  <a:pt x="17175" y="6337"/>
                  <a:pt x="17243" y="6371"/>
                  <a:pt x="17264" y="6375"/>
                </a:cubicBezTo>
                <a:cubicBezTo>
                  <a:pt x="17304" y="6383"/>
                  <a:pt x="17353" y="6380"/>
                  <a:pt x="17388" y="6400"/>
                </a:cubicBezTo>
                <a:cubicBezTo>
                  <a:pt x="17414" y="6415"/>
                  <a:pt x="17455" y="6470"/>
                  <a:pt x="17462" y="6474"/>
                </a:cubicBezTo>
                <a:cubicBezTo>
                  <a:pt x="17469" y="6442"/>
                  <a:pt x="17481" y="6432"/>
                  <a:pt x="17487" y="6400"/>
                </a:cubicBezTo>
                <a:cubicBezTo>
                  <a:pt x="17496" y="6353"/>
                  <a:pt x="17509" y="6359"/>
                  <a:pt x="17512" y="6325"/>
                </a:cubicBezTo>
                <a:cubicBezTo>
                  <a:pt x="17564" y="5730"/>
                  <a:pt x="17333" y="4797"/>
                  <a:pt x="17537" y="4266"/>
                </a:cubicBezTo>
                <a:cubicBezTo>
                  <a:pt x="17545" y="4266"/>
                  <a:pt x="17554" y="4266"/>
                  <a:pt x="17562" y="4266"/>
                </a:cubicBezTo>
                <a:cubicBezTo>
                  <a:pt x="17567" y="4306"/>
                  <a:pt x="17586" y="4321"/>
                  <a:pt x="17587" y="4366"/>
                </a:cubicBezTo>
                <a:cubicBezTo>
                  <a:pt x="17598" y="4784"/>
                  <a:pt x="17604" y="5198"/>
                  <a:pt x="17611" y="5606"/>
                </a:cubicBezTo>
                <a:cubicBezTo>
                  <a:pt x="17617" y="5953"/>
                  <a:pt x="17611" y="6301"/>
                  <a:pt x="17611" y="6648"/>
                </a:cubicBezTo>
                <a:cubicBezTo>
                  <a:pt x="17538" y="6638"/>
                  <a:pt x="17473" y="6666"/>
                  <a:pt x="17413" y="6623"/>
                </a:cubicBezTo>
                <a:cubicBezTo>
                  <a:pt x="17400" y="6614"/>
                  <a:pt x="17386" y="6590"/>
                  <a:pt x="17363" y="6573"/>
                </a:cubicBezTo>
                <a:cubicBezTo>
                  <a:pt x="17353" y="6565"/>
                  <a:pt x="17324" y="6510"/>
                  <a:pt x="17314" y="6499"/>
                </a:cubicBezTo>
                <a:cubicBezTo>
                  <a:pt x="17290" y="6472"/>
                  <a:pt x="17259" y="6467"/>
                  <a:pt x="17239" y="6424"/>
                </a:cubicBezTo>
                <a:cubicBezTo>
                  <a:pt x="17226" y="6395"/>
                  <a:pt x="17233" y="6365"/>
                  <a:pt x="17214" y="6325"/>
                </a:cubicBezTo>
                <a:cubicBezTo>
                  <a:pt x="17201" y="6297"/>
                  <a:pt x="17198" y="6264"/>
                  <a:pt x="17190" y="6251"/>
                </a:cubicBezTo>
                <a:cubicBezTo>
                  <a:pt x="17169" y="6215"/>
                  <a:pt x="17176" y="6197"/>
                  <a:pt x="17140" y="6176"/>
                </a:cubicBezTo>
                <a:cubicBezTo>
                  <a:pt x="17113" y="6160"/>
                  <a:pt x="17089" y="6161"/>
                  <a:pt x="17066" y="6152"/>
                </a:cubicBezTo>
                <a:cubicBezTo>
                  <a:pt x="17008" y="6129"/>
                  <a:pt x="16944" y="6168"/>
                  <a:pt x="16892" y="6127"/>
                </a:cubicBezTo>
                <a:cubicBezTo>
                  <a:pt x="16878" y="6116"/>
                  <a:pt x="16885" y="6063"/>
                  <a:pt x="16867" y="6052"/>
                </a:cubicBezTo>
                <a:cubicBezTo>
                  <a:pt x="16843" y="6037"/>
                  <a:pt x="16820" y="6046"/>
                  <a:pt x="16793" y="6028"/>
                </a:cubicBezTo>
                <a:cubicBezTo>
                  <a:pt x="16790" y="6026"/>
                  <a:pt x="16728" y="5987"/>
                  <a:pt x="16718" y="5978"/>
                </a:cubicBezTo>
                <a:cubicBezTo>
                  <a:pt x="16707" y="5968"/>
                  <a:pt x="16683" y="5917"/>
                  <a:pt x="16669" y="5904"/>
                </a:cubicBezTo>
                <a:cubicBezTo>
                  <a:pt x="16711" y="5949"/>
                  <a:pt x="16728" y="5956"/>
                  <a:pt x="16768" y="6003"/>
                </a:cubicBezTo>
                <a:cubicBezTo>
                  <a:pt x="16856" y="6108"/>
                  <a:pt x="16933" y="6220"/>
                  <a:pt x="17016" y="6325"/>
                </a:cubicBezTo>
                <a:cubicBezTo>
                  <a:pt x="17067" y="6390"/>
                  <a:pt x="17129" y="6450"/>
                  <a:pt x="17190" y="6499"/>
                </a:cubicBezTo>
                <a:cubicBezTo>
                  <a:pt x="17239" y="6538"/>
                  <a:pt x="17322" y="6577"/>
                  <a:pt x="17388" y="6598"/>
                </a:cubicBezTo>
                <a:cubicBezTo>
                  <a:pt x="17428" y="6611"/>
                  <a:pt x="17472" y="6612"/>
                  <a:pt x="17512" y="6623"/>
                </a:cubicBezTo>
                <a:cubicBezTo>
                  <a:pt x="17520" y="6623"/>
                  <a:pt x="17529" y="6623"/>
                  <a:pt x="17537" y="6623"/>
                </a:cubicBezTo>
                <a:cubicBezTo>
                  <a:pt x="17537" y="6102"/>
                  <a:pt x="17479" y="5414"/>
                  <a:pt x="17587" y="4986"/>
                </a:cubicBezTo>
                <a:cubicBezTo>
                  <a:pt x="17587" y="5387"/>
                  <a:pt x="17571" y="5788"/>
                  <a:pt x="17636" y="6176"/>
                </a:cubicBezTo>
                <a:cubicBezTo>
                  <a:pt x="17646" y="6234"/>
                  <a:pt x="17656" y="6291"/>
                  <a:pt x="17661" y="6350"/>
                </a:cubicBezTo>
                <a:cubicBezTo>
                  <a:pt x="17664" y="6383"/>
                  <a:pt x="17658" y="6416"/>
                  <a:pt x="17661" y="6449"/>
                </a:cubicBezTo>
                <a:cubicBezTo>
                  <a:pt x="17661" y="6408"/>
                  <a:pt x="17661" y="6416"/>
                  <a:pt x="17661" y="6375"/>
                </a:cubicBezTo>
                <a:cubicBezTo>
                  <a:pt x="17661" y="5734"/>
                  <a:pt x="17651" y="5064"/>
                  <a:pt x="17686" y="4440"/>
                </a:cubicBezTo>
                <a:cubicBezTo>
                  <a:pt x="17693" y="4317"/>
                  <a:pt x="17686" y="4191"/>
                  <a:pt x="17686" y="4068"/>
                </a:cubicBezTo>
                <a:cubicBezTo>
                  <a:pt x="17808" y="4053"/>
                  <a:pt x="17886" y="4024"/>
                  <a:pt x="18008" y="3994"/>
                </a:cubicBezTo>
                <a:cubicBezTo>
                  <a:pt x="18122" y="3966"/>
                  <a:pt x="18221" y="3942"/>
                  <a:pt x="18331" y="3894"/>
                </a:cubicBezTo>
                <a:cubicBezTo>
                  <a:pt x="18383" y="3871"/>
                  <a:pt x="18462" y="3820"/>
                  <a:pt x="18479" y="3795"/>
                </a:cubicBezTo>
                <a:cubicBezTo>
                  <a:pt x="18502" y="3761"/>
                  <a:pt x="18485" y="3697"/>
                  <a:pt x="18504" y="3671"/>
                </a:cubicBezTo>
                <a:cubicBezTo>
                  <a:pt x="18528" y="3638"/>
                  <a:pt x="18613" y="3574"/>
                  <a:pt x="18628" y="3547"/>
                </a:cubicBezTo>
                <a:cubicBezTo>
                  <a:pt x="18647" y="3514"/>
                  <a:pt x="18661" y="3489"/>
                  <a:pt x="18678" y="3448"/>
                </a:cubicBezTo>
                <a:cubicBezTo>
                  <a:pt x="18695" y="3408"/>
                  <a:pt x="18690" y="3340"/>
                  <a:pt x="18703" y="3299"/>
                </a:cubicBezTo>
                <a:cubicBezTo>
                  <a:pt x="18722" y="3239"/>
                  <a:pt x="18769" y="3156"/>
                  <a:pt x="18777" y="3101"/>
                </a:cubicBezTo>
                <a:cubicBezTo>
                  <a:pt x="18787" y="3034"/>
                  <a:pt x="18764" y="2987"/>
                  <a:pt x="18802" y="2952"/>
                </a:cubicBezTo>
                <a:cubicBezTo>
                  <a:pt x="18861" y="2898"/>
                  <a:pt x="18895" y="2935"/>
                  <a:pt x="18951" y="2902"/>
                </a:cubicBezTo>
                <a:cubicBezTo>
                  <a:pt x="18999" y="2874"/>
                  <a:pt x="19052" y="2848"/>
                  <a:pt x="19100" y="2828"/>
                </a:cubicBezTo>
                <a:cubicBezTo>
                  <a:pt x="19131" y="2815"/>
                  <a:pt x="19169" y="2792"/>
                  <a:pt x="19199" y="2778"/>
                </a:cubicBezTo>
                <a:cubicBezTo>
                  <a:pt x="19229" y="2764"/>
                  <a:pt x="19216" y="2732"/>
                  <a:pt x="19248" y="2729"/>
                </a:cubicBezTo>
                <a:cubicBezTo>
                  <a:pt x="19296" y="2724"/>
                  <a:pt x="19364" y="2726"/>
                  <a:pt x="19397" y="2753"/>
                </a:cubicBezTo>
                <a:cubicBezTo>
                  <a:pt x="19433" y="2782"/>
                  <a:pt x="19395" y="2788"/>
                  <a:pt x="19422" y="2828"/>
                </a:cubicBezTo>
                <a:cubicBezTo>
                  <a:pt x="19436" y="2848"/>
                  <a:pt x="19470" y="2898"/>
                  <a:pt x="19472" y="2902"/>
                </a:cubicBezTo>
                <a:cubicBezTo>
                  <a:pt x="19484" y="2929"/>
                  <a:pt x="19488" y="2972"/>
                  <a:pt x="19496" y="3001"/>
                </a:cubicBezTo>
                <a:cubicBezTo>
                  <a:pt x="19497" y="3004"/>
                  <a:pt x="19514" y="3067"/>
                  <a:pt x="19521" y="3101"/>
                </a:cubicBezTo>
                <a:cubicBezTo>
                  <a:pt x="19537" y="3180"/>
                  <a:pt x="19548" y="3252"/>
                  <a:pt x="19571" y="3324"/>
                </a:cubicBezTo>
                <a:cubicBezTo>
                  <a:pt x="19583" y="3362"/>
                  <a:pt x="19605" y="3411"/>
                  <a:pt x="19621" y="3448"/>
                </a:cubicBezTo>
                <a:cubicBezTo>
                  <a:pt x="19629" y="3466"/>
                  <a:pt x="19660" y="3497"/>
                  <a:pt x="19670" y="3522"/>
                </a:cubicBezTo>
                <a:cubicBezTo>
                  <a:pt x="19682" y="3551"/>
                  <a:pt x="19686" y="3591"/>
                  <a:pt x="19695" y="3621"/>
                </a:cubicBezTo>
                <a:cubicBezTo>
                  <a:pt x="19706" y="3659"/>
                  <a:pt x="19710" y="3646"/>
                  <a:pt x="19720" y="3696"/>
                </a:cubicBezTo>
                <a:cubicBezTo>
                  <a:pt x="19725" y="3720"/>
                  <a:pt x="19715" y="3746"/>
                  <a:pt x="19720" y="3770"/>
                </a:cubicBezTo>
                <a:cubicBezTo>
                  <a:pt x="19687" y="3775"/>
                  <a:pt x="19678" y="3794"/>
                  <a:pt x="19645" y="3795"/>
                </a:cubicBezTo>
                <a:cubicBezTo>
                  <a:pt x="19465" y="3800"/>
                  <a:pt x="19315" y="3799"/>
                  <a:pt x="19149" y="3845"/>
                </a:cubicBezTo>
                <a:cubicBezTo>
                  <a:pt x="19105" y="3857"/>
                  <a:pt x="19067" y="3887"/>
                  <a:pt x="19025" y="3894"/>
                </a:cubicBezTo>
                <a:cubicBezTo>
                  <a:pt x="18916" y="3912"/>
                  <a:pt x="18809" y="3896"/>
                  <a:pt x="18703" y="3919"/>
                </a:cubicBezTo>
                <a:cubicBezTo>
                  <a:pt x="18658" y="3929"/>
                  <a:pt x="18622" y="3929"/>
                  <a:pt x="18579" y="3944"/>
                </a:cubicBezTo>
                <a:cubicBezTo>
                  <a:pt x="18510" y="3968"/>
                  <a:pt x="18441" y="4017"/>
                  <a:pt x="18380" y="4043"/>
                </a:cubicBezTo>
                <a:cubicBezTo>
                  <a:pt x="18345" y="4058"/>
                  <a:pt x="18319" y="4058"/>
                  <a:pt x="18281" y="4068"/>
                </a:cubicBezTo>
                <a:cubicBezTo>
                  <a:pt x="18248" y="4076"/>
                  <a:pt x="18193" y="4082"/>
                  <a:pt x="18157" y="4093"/>
                </a:cubicBezTo>
                <a:cubicBezTo>
                  <a:pt x="18123" y="4104"/>
                  <a:pt x="18094" y="4107"/>
                  <a:pt x="18058" y="4118"/>
                </a:cubicBezTo>
                <a:cubicBezTo>
                  <a:pt x="18017" y="4130"/>
                  <a:pt x="17977" y="4156"/>
                  <a:pt x="17934" y="4167"/>
                </a:cubicBezTo>
                <a:cubicBezTo>
                  <a:pt x="17898" y="4176"/>
                  <a:pt x="17845" y="4189"/>
                  <a:pt x="17835" y="4192"/>
                </a:cubicBezTo>
                <a:cubicBezTo>
                  <a:pt x="17801" y="4203"/>
                  <a:pt x="17770" y="4206"/>
                  <a:pt x="17735" y="4217"/>
                </a:cubicBezTo>
                <a:cubicBezTo>
                  <a:pt x="17700" y="4229"/>
                  <a:pt x="17708" y="4230"/>
                  <a:pt x="17661" y="4242"/>
                </a:cubicBezTo>
                <a:cubicBezTo>
                  <a:pt x="17731" y="4235"/>
                  <a:pt x="17788" y="4221"/>
                  <a:pt x="17859" y="4217"/>
                </a:cubicBezTo>
                <a:cubicBezTo>
                  <a:pt x="17986" y="4209"/>
                  <a:pt x="18038" y="4210"/>
                  <a:pt x="18132" y="4167"/>
                </a:cubicBezTo>
                <a:cubicBezTo>
                  <a:pt x="18220" y="4126"/>
                  <a:pt x="18293" y="4082"/>
                  <a:pt x="18380" y="4043"/>
                </a:cubicBezTo>
                <a:cubicBezTo>
                  <a:pt x="18438" y="4017"/>
                  <a:pt x="18526" y="3984"/>
                  <a:pt x="18554" y="3969"/>
                </a:cubicBezTo>
                <a:cubicBezTo>
                  <a:pt x="18594" y="3948"/>
                  <a:pt x="18632" y="3906"/>
                  <a:pt x="18653" y="3894"/>
                </a:cubicBezTo>
                <a:cubicBezTo>
                  <a:pt x="18692" y="3871"/>
                  <a:pt x="18760" y="3845"/>
                  <a:pt x="18802" y="3820"/>
                </a:cubicBezTo>
                <a:cubicBezTo>
                  <a:pt x="18855" y="3789"/>
                  <a:pt x="18901" y="3756"/>
                  <a:pt x="18951" y="3721"/>
                </a:cubicBezTo>
                <a:cubicBezTo>
                  <a:pt x="18973" y="3706"/>
                  <a:pt x="18983" y="3683"/>
                  <a:pt x="19000" y="3671"/>
                </a:cubicBezTo>
                <a:cubicBezTo>
                  <a:pt x="19030" y="3650"/>
                  <a:pt x="19070" y="3651"/>
                  <a:pt x="19100" y="3621"/>
                </a:cubicBezTo>
                <a:cubicBezTo>
                  <a:pt x="19118" y="3603"/>
                  <a:pt x="19134" y="3561"/>
                  <a:pt x="19149" y="3547"/>
                </a:cubicBezTo>
                <a:cubicBezTo>
                  <a:pt x="19177" y="3522"/>
                  <a:pt x="19236" y="3464"/>
                  <a:pt x="19273" y="3448"/>
                </a:cubicBezTo>
                <a:cubicBezTo>
                  <a:pt x="19313" y="3431"/>
                  <a:pt x="19386" y="3442"/>
                  <a:pt x="19422" y="3423"/>
                </a:cubicBezTo>
                <a:cubicBezTo>
                  <a:pt x="19422" y="3415"/>
                  <a:pt x="19422" y="3406"/>
                  <a:pt x="19422" y="3398"/>
                </a:cubicBezTo>
                <a:cubicBezTo>
                  <a:pt x="19389" y="3393"/>
                  <a:pt x="19381" y="3376"/>
                  <a:pt x="19348" y="3373"/>
                </a:cubicBezTo>
                <a:cubicBezTo>
                  <a:pt x="19272" y="3366"/>
                  <a:pt x="19188" y="3381"/>
                  <a:pt x="19149" y="3398"/>
                </a:cubicBezTo>
                <a:cubicBezTo>
                  <a:pt x="19132" y="3405"/>
                  <a:pt x="19093" y="3409"/>
                  <a:pt x="19075" y="3423"/>
                </a:cubicBezTo>
                <a:cubicBezTo>
                  <a:pt x="19059" y="3436"/>
                  <a:pt x="19031" y="3518"/>
                  <a:pt x="19025" y="3522"/>
                </a:cubicBezTo>
                <a:cubicBezTo>
                  <a:pt x="18998" y="3541"/>
                  <a:pt x="18984" y="3528"/>
                  <a:pt x="18951" y="3547"/>
                </a:cubicBezTo>
                <a:cubicBezTo>
                  <a:pt x="18917" y="3567"/>
                  <a:pt x="18881" y="3567"/>
                  <a:pt x="18827" y="3597"/>
                </a:cubicBezTo>
                <a:cubicBezTo>
                  <a:pt x="18773" y="3627"/>
                  <a:pt x="18717" y="3676"/>
                  <a:pt x="18653" y="3696"/>
                </a:cubicBezTo>
                <a:cubicBezTo>
                  <a:pt x="18570" y="3722"/>
                  <a:pt x="18459" y="3753"/>
                  <a:pt x="18405" y="3770"/>
                </a:cubicBezTo>
                <a:cubicBezTo>
                  <a:pt x="18311" y="3800"/>
                  <a:pt x="18229" y="3821"/>
                  <a:pt x="18157" y="3870"/>
                </a:cubicBezTo>
                <a:cubicBezTo>
                  <a:pt x="18126" y="3892"/>
                  <a:pt x="18112" y="3923"/>
                  <a:pt x="18083" y="3944"/>
                </a:cubicBezTo>
                <a:cubicBezTo>
                  <a:pt x="18021" y="3990"/>
                  <a:pt x="17977" y="4049"/>
                  <a:pt x="17909" y="4093"/>
                </a:cubicBezTo>
                <a:cubicBezTo>
                  <a:pt x="17875" y="4115"/>
                  <a:pt x="17813" y="4117"/>
                  <a:pt x="17785" y="4142"/>
                </a:cubicBezTo>
                <a:cubicBezTo>
                  <a:pt x="17770" y="4155"/>
                  <a:pt x="17745" y="4205"/>
                  <a:pt x="17735" y="4217"/>
                </a:cubicBezTo>
                <a:cubicBezTo>
                  <a:pt x="17717" y="4239"/>
                  <a:pt x="17697" y="4265"/>
                  <a:pt x="17686" y="4316"/>
                </a:cubicBezTo>
                <a:cubicBezTo>
                  <a:pt x="17669" y="4392"/>
                  <a:pt x="17668" y="4472"/>
                  <a:pt x="17661" y="4564"/>
                </a:cubicBezTo>
                <a:cubicBezTo>
                  <a:pt x="17647" y="4736"/>
                  <a:pt x="17631" y="4922"/>
                  <a:pt x="17587" y="5085"/>
                </a:cubicBezTo>
                <a:cubicBezTo>
                  <a:pt x="17576" y="5127"/>
                  <a:pt x="17543" y="5132"/>
                  <a:pt x="17537" y="5184"/>
                </a:cubicBezTo>
                <a:cubicBezTo>
                  <a:pt x="17501" y="5479"/>
                  <a:pt x="17491" y="5971"/>
                  <a:pt x="17562" y="6226"/>
                </a:cubicBezTo>
                <a:cubicBezTo>
                  <a:pt x="17572" y="6261"/>
                  <a:pt x="17581" y="6291"/>
                  <a:pt x="17587" y="6325"/>
                </a:cubicBezTo>
                <a:cubicBezTo>
                  <a:pt x="17597" y="6376"/>
                  <a:pt x="17603" y="6439"/>
                  <a:pt x="17611" y="6499"/>
                </a:cubicBezTo>
                <a:cubicBezTo>
                  <a:pt x="17616" y="6539"/>
                  <a:pt x="17633" y="6554"/>
                  <a:pt x="17636" y="6598"/>
                </a:cubicBezTo>
                <a:cubicBezTo>
                  <a:pt x="17642" y="6688"/>
                  <a:pt x="17673" y="6736"/>
                  <a:pt x="17686" y="6772"/>
                </a:cubicBezTo>
                <a:cubicBezTo>
                  <a:pt x="17708" y="6835"/>
                  <a:pt x="17704" y="6893"/>
                  <a:pt x="17760" y="6945"/>
                </a:cubicBezTo>
                <a:cubicBezTo>
                  <a:pt x="17775" y="6959"/>
                  <a:pt x="17822" y="6955"/>
                  <a:pt x="17835" y="6970"/>
                </a:cubicBezTo>
                <a:cubicBezTo>
                  <a:pt x="17846" y="6982"/>
                  <a:pt x="17877" y="7010"/>
                  <a:pt x="17884" y="7020"/>
                </a:cubicBezTo>
                <a:cubicBezTo>
                  <a:pt x="17902" y="7046"/>
                  <a:pt x="17915" y="7088"/>
                  <a:pt x="17934" y="7119"/>
                </a:cubicBezTo>
                <a:cubicBezTo>
                  <a:pt x="17942" y="7132"/>
                  <a:pt x="17981" y="7165"/>
                  <a:pt x="17983" y="7169"/>
                </a:cubicBezTo>
                <a:cubicBezTo>
                  <a:pt x="17999" y="7212"/>
                  <a:pt x="17998" y="7271"/>
                  <a:pt x="18008" y="7317"/>
                </a:cubicBezTo>
                <a:cubicBezTo>
                  <a:pt x="18020" y="7374"/>
                  <a:pt x="18024" y="7440"/>
                  <a:pt x="18033" y="7491"/>
                </a:cubicBezTo>
                <a:cubicBezTo>
                  <a:pt x="18041" y="7541"/>
                  <a:pt x="18054" y="7564"/>
                  <a:pt x="18058" y="7615"/>
                </a:cubicBezTo>
                <a:cubicBezTo>
                  <a:pt x="18068" y="7744"/>
                  <a:pt x="18038" y="7921"/>
                  <a:pt x="18083" y="8012"/>
                </a:cubicBezTo>
                <a:cubicBezTo>
                  <a:pt x="18099" y="8045"/>
                  <a:pt x="18113" y="8039"/>
                  <a:pt x="18132" y="8062"/>
                </a:cubicBezTo>
                <a:cubicBezTo>
                  <a:pt x="18138" y="8070"/>
                  <a:pt x="18181" y="8110"/>
                  <a:pt x="18182" y="8111"/>
                </a:cubicBezTo>
                <a:cubicBezTo>
                  <a:pt x="18197" y="8148"/>
                  <a:pt x="18197" y="8136"/>
                  <a:pt x="18207" y="8186"/>
                </a:cubicBezTo>
                <a:cubicBezTo>
                  <a:pt x="18237" y="8337"/>
                  <a:pt x="18207" y="8527"/>
                  <a:pt x="18207" y="8682"/>
                </a:cubicBezTo>
                <a:cubicBezTo>
                  <a:pt x="18080" y="8677"/>
                  <a:pt x="17959" y="8705"/>
                  <a:pt x="17859" y="8632"/>
                </a:cubicBezTo>
                <a:cubicBezTo>
                  <a:pt x="17850" y="8625"/>
                  <a:pt x="17822" y="8580"/>
                  <a:pt x="17810" y="8558"/>
                </a:cubicBezTo>
                <a:cubicBezTo>
                  <a:pt x="17799" y="8537"/>
                  <a:pt x="17794" y="8528"/>
                  <a:pt x="17785" y="8483"/>
                </a:cubicBezTo>
                <a:cubicBezTo>
                  <a:pt x="17764" y="8381"/>
                  <a:pt x="17794" y="8279"/>
                  <a:pt x="17760" y="8186"/>
                </a:cubicBezTo>
                <a:cubicBezTo>
                  <a:pt x="17749" y="8155"/>
                  <a:pt x="17719" y="8123"/>
                  <a:pt x="17711" y="8111"/>
                </a:cubicBezTo>
                <a:cubicBezTo>
                  <a:pt x="17693" y="8083"/>
                  <a:pt x="17677" y="8056"/>
                  <a:pt x="17661" y="8037"/>
                </a:cubicBezTo>
                <a:cubicBezTo>
                  <a:pt x="17646" y="8019"/>
                  <a:pt x="17629" y="7987"/>
                  <a:pt x="17611" y="7962"/>
                </a:cubicBezTo>
                <a:cubicBezTo>
                  <a:pt x="17588" y="7930"/>
                  <a:pt x="17578" y="7939"/>
                  <a:pt x="17562" y="7888"/>
                </a:cubicBezTo>
                <a:cubicBezTo>
                  <a:pt x="17558" y="7876"/>
                  <a:pt x="17543" y="7834"/>
                  <a:pt x="17537" y="7789"/>
                </a:cubicBezTo>
                <a:cubicBezTo>
                  <a:pt x="17509" y="7564"/>
                  <a:pt x="17537" y="7321"/>
                  <a:pt x="17537" y="7094"/>
                </a:cubicBezTo>
                <a:cubicBezTo>
                  <a:pt x="17553" y="7109"/>
                  <a:pt x="17596" y="7105"/>
                  <a:pt x="17611" y="7119"/>
                </a:cubicBezTo>
                <a:cubicBezTo>
                  <a:pt x="17622" y="7129"/>
                  <a:pt x="17703" y="7208"/>
                  <a:pt x="17711" y="7218"/>
                </a:cubicBezTo>
                <a:cubicBezTo>
                  <a:pt x="17726" y="7237"/>
                  <a:pt x="17769" y="7312"/>
                  <a:pt x="17785" y="7342"/>
                </a:cubicBezTo>
                <a:cubicBezTo>
                  <a:pt x="17795" y="7361"/>
                  <a:pt x="17798" y="7427"/>
                  <a:pt x="17810" y="7441"/>
                </a:cubicBezTo>
                <a:cubicBezTo>
                  <a:pt x="17826" y="7460"/>
                  <a:pt x="17842" y="7469"/>
                  <a:pt x="17859" y="7491"/>
                </a:cubicBezTo>
                <a:cubicBezTo>
                  <a:pt x="17887" y="7527"/>
                  <a:pt x="17890" y="7514"/>
                  <a:pt x="17909" y="7541"/>
                </a:cubicBezTo>
              </a:path>
            </a:pathLst>
          </a:custGeom>
          <a:noFill/>
          <a:ln cap="sq" w="228600">
            <a:solidFill>
              <a:srgbClr val="ff99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59680" y="2232000"/>
            <a:ext cx="357120" cy="642960"/>
          </a:xfrm>
          <a:custGeom>
            <a:avLst/>
            <a:gdLst/>
            <a:ahLst/>
            <a:rect l="l" t="t" r="r" b="b"/>
            <a:pathLst>
              <a:path w="993" h="1787">
                <a:moveTo>
                  <a:pt x="18107" y="7987"/>
                </a:moveTo>
                <a:cubicBezTo>
                  <a:pt x="18107" y="7962"/>
                  <a:pt x="18107" y="7954"/>
                  <a:pt x="18107" y="7938"/>
                </a:cubicBezTo>
                <a:cubicBezTo>
                  <a:pt x="18093" y="7914"/>
                  <a:pt x="18086" y="7896"/>
                  <a:pt x="18083" y="7838"/>
                </a:cubicBezTo>
                <a:cubicBezTo>
                  <a:pt x="18080" y="7780"/>
                  <a:pt x="18101" y="7734"/>
                  <a:pt x="18107" y="7689"/>
                </a:cubicBezTo>
                <a:cubicBezTo>
                  <a:pt x="18107" y="7665"/>
                  <a:pt x="18107" y="7656"/>
                  <a:pt x="18107" y="7640"/>
                </a:cubicBezTo>
                <a:cubicBezTo>
                  <a:pt x="18112" y="7627"/>
                  <a:pt x="18132" y="7586"/>
                  <a:pt x="18132" y="7541"/>
                </a:cubicBezTo>
                <a:cubicBezTo>
                  <a:pt x="18132" y="7425"/>
                  <a:pt x="18125" y="7361"/>
                  <a:pt x="18182" y="7268"/>
                </a:cubicBezTo>
                <a:cubicBezTo>
                  <a:pt x="18203" y="7235"/>
                  <a:pt x="18236" y="7192"/>
                  <a:pt x="18256" y="7169"/>
                </a:cubicBezTo>
                <a:cubicBezTo>
                  <a:pt x="18279" y="7137"/>
                  <a:pt x="18286" y="7113"/>
                  <a:pt x="18331" y="7094"/>
                </a:cubicBezTo>
                <a:cubicBezTo>
                  <a:pt x="18339" y="7094"/>
                  <a:pt x="18347" y="7094"/>
                  <a:pt x="18355" y="7094"/>
                </a:cubicBezTo>
                <a:cubicBezTo>
                  <a:pt x="18369" y="7058"/>
                  <a:pt x="18378" y="7038"/>
                  <a:pt x="18380" y="6995"/>
                </a:cubicBezTo>
                <a:cubicBezTo>
                  <a:pt x="18383" y="6947"/>
                  <a:pt x="18389" y="6906"/>
                  <a:pt x="18355" y="6871"/>
                </a:cubicBezTo>
                <a:cubicBezTo>
                  <a:pt x="18347" y="6871"/>
                  <a:pt x="18339" y="6871"/>
                  <a:pt x="18331" y="6871"/>
                </a:cubicBezTo>
                <a:cubicBezTo>
                  <a:pt x="18315" y="6850"/>
                  <a:pt x="18322" y="6842"/>
                  <a:pt x="18306" y="6821"/>
                </a:cubicBezTo>
                <a:cubicBezTo>
                  <a:pt x="18286" y="6795"/>
                  <a:pt x="18289" y="6822"/>
                  <a:pt x="18281" y="6772"/>
                </a:cubicBezTo>
                <a:cubicBezTo>
                  <a:pt x="18250" y="6750"/>
                  <a:pt x="18239" y="6720"/>
                  <a:pt x="18207" y="6697"/>
                </a:cubicBezTo>
                <a:cubicBezTo>
                  <a:pt x="18199" y="6697"/>
                  <a:pt x="18190" y="6697"/>
                  <a:pt x="18182" y="6697"/>
                </a:cubicBezTo>
                <a:cubicBezTo>
                  <a:pt x="18161" y="6681"/>
                  <a:pt x="18153" y="6659"/>
                  <a:pt x="18107" y="6648"/>
                </a:cubicBezTo>
                <a:cubicBezTo>
                  <a:pt x="18080" y="6642"/>
                  <a:pt x="18037" y="6648"/>
                  <a:pt x="18008" y="6648"/>
                </a:cubicBezTo>
                <a:cubicBezTo>
                  <a:pt x="17992" y="6632"/>
                  <a:pt x="17968" y="6597"/>
                  <a:pt x="17934" y="6573"/>
                </a:cubicBezTo>
                <a:cubicBezTo>
                  <a:pt x="17901" y="6549"/>
                  <a:pt x="17893" y="6526"/>
                  <a:pt x="17859" y="6499"/>
                </a:cubicBezTo>
                <a:cubicBezTo>
                  <a:pt x="17830" y="6476"/>
                  <a:pt x="17794" y="6442"/>
                  <a:pt x="17760" y="6424"/>
                </a:cubicBezTo>
                <a:cubicBezTo>
                  <a:pt x="17752" y="6424"/>
                  <a:pt x="17743" y="6424"/>
                  <a:pt x="17735" y="6424"/>
                </a:cubicBezTo>
                <a:cubicBezTo>
                  <a:pt x="17719" y="6404"/>
                  <a:pt x="17703" y="6380"/>
                  <a:pt x="17686" y="6350"/>
                </a:cubicBezTo>
                <a:cubicBezTo>
                  <a:pt x="17655" y="6329"/>
                  <a:pt x="17657" y="6331"/>
                  <a:pt x="17636" y="6300"/>
                </a:cubicBezTo>
                <a:cubicBezTo>
                  <a:pt x="17572" y="6282"/>
                  <a:pt x="17600" y="6250"/>
                  <a:pt x="17537" y="6226"/>
                </a:cubicBezTo>
                <a:cubicBezTo>
                  <a:pt x="17513" y="6217"/>
                  <a:pt x="17464" y="6226"/>
                  <a:pt x="17438" y="6226"/>
                </a:cubicBezTo>
                <a:cubicBezTo>
                  <a:pt x="17412" y="6206"/>
                  <a:pt x="17439" y="6209"/>
                  <a:pt x="17388" y="6201"/>
                </a:cubicBezTo>
              </a:path>
            </a:pathLst>
          </a:custGeom>
          <a:noFill/>
          <a:ln cap="sq" w="228600">
            <a:solidFill>
              <a:srgbClr val="ff99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1160" y="2803680"/>
            <a:ext cx="90720" cy="331560"/>
          </a:xfrm>
          <a:custGeom>
            <a:avLst/>
            <a:gdLst/>
            <a:ahLst/>
            <a:rect l="l" t="t" r="r" b="b"/>
            <a:pathLst>
              <a:path w="249" h="918">
                <a:moveTo>
                  <a:pt x="18157" y="8706"/>
                </a:moveTo>
                <a:cubicBezTo>
                  <a:pt x="18182" y="8706"/>
                  <a:pt x="18190" y="8706"/>
                  <a:pt x="18207" y="8706"/>
                </a:cubicBezTo>
                <a:cubicBezTo>
                  <a:pt x="18207" y="8661"/>
                  <a:pt x="18227" y="8647"/>
                  <a:pt x="18231" y="8607"/>
                </a:cubicBezTo>
                <a:cubicBezTo>
                  <a:pt x="18234" y="8583"/>
                  <a:pt x="18231" y="8557"/>
                  <a:pt x="18231" y="8533"/>
                </a:cubicBezTo>
                <a:cubicBezTo>
                  <a:pt x="18269" y="8520"/>
                  <a:pt x="18256" y="8503"/>
                  <a:pt x="18256" y="8458"/>
                </a:cubicBezTo>
                <a:cubicBezTo>
                  <a:pt x="18256" y="8434"/>
                  <a:pt x="18256" y="8425"/>
                  <a:pt x="18256" y="8409"/>
                </a:cubicBezTo>
                <a:cubicBezTo>
                  <a:pt x="18294" y="8396"/>
                  <a:pt x="18281" y="8379"/>
                  <a:pt x="18281" y="8334"/>
                </a:cubicBezTo>
                <a:cubicBezTo>
                  <a:pt x="18281" y="8218"/>
                  <a:pt x="18281" y="8103"/>
                  <a:pt x="18281" y="7987"/>
                </a:cubicBezTo>
                <a:cubicBezTo>
                  <a:pt x="18246" y="7975"/>
                  <a:pt x="18256" y="7980"/>
                  <a:pt x="18256" y="7938"/>
                </a:cubicBezTo>
                <a:cubicBezTo>
                  <a:pt x="18184" y="7938"/>
                  <a:pt x="18237" y="7916"/>
                  <a:pt x="18182" y="7888"/>
                </a:cubicBezTo>
                <a:cubicBezTo>
                  <a:pt x="18167" y="7881"/>
                  <a:pt x="18124" y="7888"/>
                  <a:pt x="18107" y="7888"/>
                </a:cubicBezTo>
                <a:cubicBezTo>
                  <a:pt x="18107" y="7830"/>
                  <a:pt x="18120" y="7849"/>
                  <a:pt x="18058" y="7838"/>
                </a:cubicBezTo>
                <a:cubicBezTo>
                  <a:pt x="18058" y="7810"/>
                  <a:pt x="18056" y="7799"/>
                  <a:pt x="18033" y="7789"/>
                </a:cubicBezTo>
              </a:path>
            </a:pathLst>
          </a:custGeom>
          <a:noFill/>
          <a:ln cap="sq" w="228600">
            <a:solidFill>
              <a:srgbClr val="ff99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5257800" cy="5486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638680" y="228600"/>
            <a:ext cx="335304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t on hills – made it hard to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iber River – transportation route,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miles from the sea – safe from others’ navies and 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er of Italy – could easily get to other places in Italy and in the Mediterran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54849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e Nostrum means “our sea” – eventually Rome controls all of the lands around the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0865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9:00:30Z</dcterms:created>
  <dc:creator>gehadde</dc:creator>
  <dc:description/>
  <dc:language>en-US</dc:language>
  <cp:lastModifiedBy>gehadde</cp:lastModifiedBy>
  <dcterms:modified xsi:type="dcterms:W3CDTF">2012-05-23T13:04:12Z</dcterms:modified>
  <cp:revision>18</cp:revision>
  <dc:subject/>
  <dc:title>WARM-UP: #1</dc:title>
</cp:coreProperties>
</file>